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11.jpeg" ContentType="image/jpeg"/>
  <Override PartName="/ppt/media/image9.jpeg" ContentType="image/jpeg"/>
  <Override PartName="/ppt/media/image4.png" ContentType="image/png"/>
  <Override PartName="/ppt/media/image12.wmf" ContentType="image/x-wmf"/>
  <Override PartName="/ppt/media/image7.wmf" ContentType="image/x-wmf"/>
  <Override PartName="/ppt/media/image5.png" ContentType="image/png"/>
  <Override PartName="/ppt/media/image13.wmf" ContentType="image/x-wmf"/>
  <Override PartName="/ppt/media/image10.jpeg" ContentType="image/jpeg"/>
  <Override PartName="/ppt/media/image8.wmf" ContentType="image/x-wmf"/>
  <Override PartName="/ppt/media/image30.wmf" ContentType="image/x-wmf"/>
  <Override PartName="/ppt/media/image31.wmf" ContentType="image/x-wmf"/>
  <Override PartName="/ppt/media/image2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media/image27.wmf" ContentType="image/x-wmf"/>
  <Override PartName="/ppt/media/image28.wmf" ContentType="image/x-wmf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  <p:sldId id="315" r:id="rId75"/>
    <p:sldId id="316" r:id="rId76"/>
    <p:sldId id="317" r:id="rId77"/>
    <p:sldId id="318" r:id="rId78"/>
    <p:sldId id="319" r:id="rId79"/>
    <p:sldId id="320" r:id="rId80"/>
    <p:sldId id="321" r:id="rId81"/>
    <p:sldId id="322" r:id="rId82"/>
    <p:sldId id="323" r:id="rId83"/>
    <p:sldId id="324" r:id="rId84"/>
    <p:sldId id="325" r:id="rId85"/>
    <p:sldId id="326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slide" Target="slides/slide60.xml"/><Relationship Id="rId76" Type="http://schemas.openxmlformats.org/officeDocument/2006/relationships/slide" Target="slides/slide61.xml"/><Relationship Id="rId77" Type="http://schemas.openxmlformats.org/officeDocument/2006/relationships/slide" Target="slides/slide62.xml"/><Relationship Id="rId78" Type="http://schemas.openxmlformats.org/officeDocument/2006/relationships/slide" Target="slides/slide63.xml"/><Relationship Id="rId79" Type="http://schemas.openxmlformats.org/officeDocument/2006/relationships/slide" Target="slides/slide64.xml"/><Relationship Id="rId80" Type="http://schemas.openxmlformats.org/officeDocument/2006/relationships/slide" Target="slides/slide65.xml"/><Relationship Id="rId81" Type="http://schemas.openxmlformats.org/officeDocument/2006/relationships/slide" Target="slides/slide66.xml"/><Relationship Id="rId82" Type="http://schemas.openxmlformats.org/officeDocument/2006/relationships/slide" Target="slides/slide67.xml"/><Relationship Id="rId83" Type="http://schemas.openxmlformats.org/officeDocument/2006/relationships/slide" Target="slides/slide68.xml"/><Relationship Id="rId84" Type="http://schemas.openxmlformats.org/officeDocument/2006/relationships/slide" Target="slides/slide69.xml"/><Relationship Id="rId85" Type="http://schemas.openxmlformats.org/officeDocument/2006/relationships/slide" Target="slides/slide70.xml"/><Relationship Id="rId86" Type="http://schemas.openxmlformats.org/officeDocument/2006/relationships/slide" Target="slides/slide71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BA6E-1EBC-48C2-8D58-A62BF7C6F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42AA-E5F7-4376-9D50-24CCBA233C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40D1-0121-4FC0-86F9-39A6320A04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locks doing work, 3 overhead (stall, branch, su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6228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6587-67F2-459F-A5D9-BB6B518397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6228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5B09-6CA4-45B5-AA90-E43C207C0A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62280" cy="34225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C570-D17C-4151-9135-6D924DCA3C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0792-83DA-4510-BF40-4AF9203216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97AE-254D-4DF2-A0C3-382D4A0594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might have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4 stages of instruction execut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Status of FU:  Normal things to keep track of (RAW &amp; structura for busyl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 from instruction format of the mahine (Fi is d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unit can Add or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j, Rk - status of registers (Yes means rea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j,Qk - If a no in Rj, Rk, means waiting for a FU to write result; Qj, Qk means wihch FU waiting for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Status of register result (WAW &amp;WAR)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U is going to write into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oreboard on 6600 = size of F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7, 6.8, 6.9, 6.12, 6.13, 6.16, 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 latencies: Add 2, Mult 10, Div 40 cl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F18-8E2F-4A24-A1BE-73FCF50C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9F4-BA93-4EE4-963D-F02AA896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2DF32-46D3-4D4C-A5B5-9AC3CF5F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792B6-A211-45A0-A9DA-8C1AFB73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CBEC5-6AA5-42EA-9310-B6D338B8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D79F5-FEC7-4472-A9F3-F5DEEBEC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7E092-B1E8-47BD-9100-1588717B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30634-5CBC-4F93-8554-342C2116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0B1BC-7ED2-417A-849B-4B1C0DC7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79A26-5579-4317-8C7E-8B1AEE62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BF6F-489C-4F37-B28F-0BA187E1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8809C-B8AF-49C4-89A6-E0CCC5AC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414-EFFF-4862-869D-6401B865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B8E09-3BCF-41F1-A626-F7438C5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73A40-E875-4FF7-BDE3-3E88A87A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32B81-8B67-4034-9E4C-C2730615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2B7D4-2CDF-45B8-92D0-BD2EA071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2B15A-DEBA-4CEB-AD25-759D650B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87C56-EC0F-45D0-84DD-471183A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CC0850-AE93-4AB2-94C6-80DF31B8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9EF1E-14EE-4099-A8A0-DC4227BF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AC1A5-FB40-4E28-9D3D-961D12D6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A2923-EDBB-43B2-86EB-CD25B3BD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27F-E5CF-467A-975D-684C129D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92228-76D4-4FC3-AEE7-568665F3A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0BE4B-E35D-4BD7-A3F0-6D73477B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1BA78-88C8-4F4F-BD86-3057C334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1D0A3-8684-472F-B1BB-C243C263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46722-8410-4406-9133-1CF4D2FE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9B10B3-11E1-46E5-8CF4-D4D5C3BC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8450B-A711-4CD5-A9B3-3767BE0C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8B19C-38EB-4A8C-9D41-82F9A5B8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E2613-5E73-4097-88AA-2B59DF5A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A2354-9EF2-4C6E-AC17-BA220284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2849-35E4-4CF2-A970-C0CE2C4E0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AAF90-F24D-49A1-BAE1-08431DD4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7882F-5587-4921-AA3E-8D6C7452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6A88A-EF84-4A81-8EC3-E15E8620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A98C5-FF92-4905-A00B-A157AFD5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95282-44B8-4789-83C7-E1532504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0E342-8E95-410E-98C9-A77180C5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C6BC89-BFC5-4F3C-BF7F-8AEA2AB6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B1CB5-F805-4178-AAB7-2496F45D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4045B-E52A-4D4A-B23A-77041D90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C54B5-C2DD-430E-9418-F3C3B384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0B17-1479-49D0-8CF9-4A2DDBD6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250B5-6550-4E07-A9A0-4A982775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E29D6-82BD-4346-814A-04FCF5D3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4F5A0-FE9F-4884-BC42-DEC499BB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71D0D-4CDD-444E-B080-8F19CC6D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B247F-143F-4C7C-9A26-EEFD96B8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DC34C5-B19E-4B40-8C90-B68091B80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B74A1-6905-4F22-9514-320512B3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67391-2D4D-4BC5-A327-167A8F09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FA44D2-AB05-404D-82C4-F9A0839D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72E34-8CBD-47A3-9F28-A90F40EF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734D-7B71-4F81-B4B0-A392E49C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E37564-DBAD-41A5-9335-350C10C2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9BB5E-BB39-42FA-BAA5-C3106BF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78B030-56E1-4394-BC41-9337B5D9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D5B06B-3065-47D4-B9F2-6A38DA42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16396-63C5-4F5F-BA04-5DABB0AF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D79B1-ABCA-4661-A5E6-73996E2B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21807-70E3-486B-A579-5ECF2A8F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C138-BC88-408A-8505-9CD465D7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0217-C73A-48BC-A715-0BF5C0F5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B1C8-63FD-4E8D-8D86-2B5462A8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4DEC-0DE5-4969-8CD5-59230F4F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DA5-CC35-4A61-83CD-33D3C0F2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C5E91-CBCD-4809-B2B4-794B2277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28E5-D2CE-4D24-AF3E-5A22CC6D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2F97-5C80-44D5-BC07-6A9899EB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6BAE-8501-451B-B8F0-0EAED582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AA6C-A18E-45CE-A469-92D4738D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5E7AC-2AD2-4AA3-91B3-16D0B2D9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E06E-5C91-4B36-B69B-7E1570E8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D927-F627-417A-A1C2-70EF4688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63FF-6AB0-42A5-8006-EAC0EC07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FBE8-F313-415A-8791-506575E5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543-1F9C-4165-8949-CB964953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236DB-03D5-4013-B902-B6090A7C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2E40-9B15-405D-BDDB-D3499CC4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DDD0-8A97-47B8-A0BB-F48016FC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317E-FC9F-4AE8-B99D-F62600E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CBEB-880B-4441-ADD4-04EB3580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0CB84-446D-40AD-BA59-3C0EF3B8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E5D26-F1B5-4112-8DCC-41A55BBC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6B9A8-3ED4-4D67-B61D-CFA5AE6E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D9566-817C-4BD7-B0F6-B0EC8B3C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3A55-81CC-4718-B76B-0D9AD12C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DFE6-3B52-4B9B-B8FA-92EA3534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F583-2242-4F2F-8EE7-0860C664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17D1-32AB-4232-9915-F44F6426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35A81-7791-4619-8163-475D23BF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3B12A-3F8F-4B08-A5E9-1C3D1328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2AE10-F7FA-4A73-B60E-2A733803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753E-7F42-4867-BAD9-B3B953B9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427B8-6E02-4D87-B9AC-9DE526CA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DEE20-1E75-4444-8246-6E43501C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D9BCF-995D-423B-A1D9-ACF7543B0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45F5F-6D94-4DDC-B390-D6CD4116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1ED-9CF4-4377-B5FA-379AD623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AEDE-7F91-4927-9CF7-7BFAEBAD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E8EDF-9CEC-4E76-B409-8D185F4B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E66DA-E854-4183-B516-253975FD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33E96-A3AA-4ED6-BCBD-76EE2940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2738B-05EE-42B6-9869-39F67099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B958B-AE0F-4F07-B8F8-4EC3212B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EA3CF-9E3D-4389-B7CF-F15AEAE6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5A189-7BA3-4A4B-BD01-0CFEE03A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4676A-A817-4C76-9113-B9FC0505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83289-8BB9-46D8-9C18-16B098E3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276-336E-45FF-A757-03E0C242F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D3F7E-B61F-4755-9B19-95DE823C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D1A2C-4259-48CE-806A-B6C669C6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9C2C4-F3ED-4950-8543-C51DCF53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B64C6-3891-4F40-B6D6-C83AB6F1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C8835-AD10-41AE-B9FD-B179A246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C4DCC-45D2-41C5-ADA8-EE68E2BE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F93AC-ED26-418E-9E36-161B54E7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F144A-E649-4CB9-8C28-0962C3F2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93BC0-CB30-4E17-A1FA-F6D565AA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3219-C13F-43DE-B759-DF2A0BFE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201-9D3F-4441-BC2B-8EBC55C1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21162-AEFB-4641-82B0-E6307941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014C-FBD4-4259-9F32-E5BB20C5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00175-CD99-45DF-820B-97AEC4F8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EF41A-A68C-48AD-8E2F-BCF72523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CE409-83F6-4236-994A-52C63806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39F77-FE9F-461A-826C-88CCB68F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B4957-E23F-4ACD-9306-16EDACA4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3BCA7-3F34-4298-A21B-3F964DCB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E5148-BB71-4858-897E-A79083C0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E21D0-BE6B-42FD-9F3F-8703B3B9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6B2-03E5-464C-9824-10B05907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9064E-CF5E-45C5-9545-3093FF0E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E5052-4FE2-4356-AFB4-44BFEBBF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CD812-4D37-4B49-B09B-6E026875F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6D6E6-95A9-4652-9527-AF690DEC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25130-F6AD-4C83-B124-DE6E0303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511DE-B1D0-4423-98B8-BFF11DC8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99915-B950-4DBA-8858-AF51A56C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33A24-276D-4B91-A214-4058E94E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A6BA8-561D-4819-B29E-3DF6E815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D3252-2A93-4EF2-80A6-4C945DFF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10B-7517-4268-B46A-8F26526C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B88C0-DA44-48D6-9172-CCCAC4E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0E8D6-3E95-4DE9-BBA1-178FE79E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DBCAD-E6FC-4FE7-835F-DE33A64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D1E88-6981-4FD9-AD47-E81EBAA1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EF7E-938F-47C9-9DC5-7B0F2D62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E0690-A1F7-4E49-951F-B8244B29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783F0-D011-4922-8E37-1C30DB38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1F1D7-2D97-495B-8331-5E3D9ECAB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86AE9-B584-4F38-B781-9FF0E16E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65E1F-5EC2-4331-8372-CF72C5F12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BC50-CAD2-48F4-B877-E3BB9238422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8B40-E01D-441F-B38A-49345E399CC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5CE1-2E76-4A85-B2C4-D157797A801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F8C9-B3C4-4AF2-A58E-5E3E689BDED6}" type="datetime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CS252 S06 Lec7 I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E3AA-A316-4623-A2BC-119B9357D3A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33AE-84A4-44F1-BF07-E891BF348D6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B036-DB98-4EC5-80E2-AE531A9B5E0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300B-0457-492A-AD88-77E2058D1A66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0FCD-EDCF-4C9B-AA5A-D6DDF59D895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99A-68FB-471D-BA21-F8359AF0CF5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924C-9F7F-406C-BA6D-4A27EBECF91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BECA-E803-411C-BCF0-BA56EAE9A5E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3117-A551-4C8B-8A0A-BCF3A328ADF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4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8: Instruction Level Paralle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Name Dependence #2: Output dependenc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rites operand </a:t>
            </a:r>
            <a:r>
              <a:rPr b="0" i="1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ed an “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output 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by compiler writ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also results from the reuse of name “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nti-dependence caused a hazard in the pipeline, called a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Write After Write (WAW) haz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uctions involved in a name dependence can execute simultaneously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f name us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instruction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s chang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o instructions do not confli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egister renam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solves name dependence for regis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ither by compiler or by hard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54" name="Group 4"/>
          <p:cNvGrpSpPr/>
          <p:nvPr/>
        </p:nvGrpSpPr>
        <p:grpSpPr>
          <a:xfrm>
            <a:off x="2209320" y="1787400"/>
            <a:ext cx="3810240" cy="1186200"/>
            <a:chOff x="2209320" y="1787400"/>
            <a:chExt cx="3810240" cy="1186200"/>
          </a:xfrm>
        </p:grpSpPr>
        <p:sp>
          <p:nvSpPr>
            <p:cNvPr id="655" name="Rectangle 5"/>
            <p:cNvSpPr/>
            <p:nvPr/>
          </p:nvSpPr>
          <p:spPr>
            <a:xfrm>
              <a:off x="2666880" y="17874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: sub r1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J: 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Arc 6"/>
            <p:cNvSpPr/>
            <p:nvPr/>
          </p:nvSpPr>
          <p:spPr>
            <a:xfrm flipH="1" flipV="1">
              <a:off x="2208960" y="1940040"/>
              <a:ext cx="468360" cy="457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rol Dependenci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162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instruction is control dependent on some set of branches, and, in general, these control dependencies must be preserved to preserve program o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p1 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1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p2 {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2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Courier New"/>
              </a:rPr>
              <a:t>S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control depend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 </a:t>
            </a:r>
            <a:r>
              <a:rPr b="0" lang="en-US" sz="2400" spc="-1" strike="noStrike">
                <a:solidFill>
                  <a:srgbClr val="0332b7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</a:t>
            </a:r>
            <a:r>
              <a:rPr b="0" lang="en-US" sz="2400" spc="-1" strike="noStrike">
                <a:solidFill>
                  <a:srgbClr val="0332b7"/>
                </a:solidFill>
                <a:latin typeface="Courier New"/>
              </a:rPr>
              <a:t>S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control depend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 </a:t>
            </a:r>
            <a:r>
              <a:rPr b="0" lang="en-US" sz="2400" spc="-1" strike="noStrike">
                <a:solidFill>
                  <a:srgbClr val="0332b7"/>
                </a:solidFill>
                <a:latin typeface="Courier New"/>
              </a:rPr>
              <a:t>p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not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rol Dependence Ignored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dependence need not be preser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ing to execute instructions that should not have been executed, thereby violating the control dependences,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an do so without affecting correctness of the progra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ead, 2 properties critical to program correctness ar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exception behavio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spcBef>
                <a:spcPts val="550"/>
              </a:spcBef>
              <a:buClr>
                <a:srgbClr val="3891a7"/>
              </a:buClr>
              <a:buFont typeface="Gill Sans MT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ception Behavior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rving exception behavi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y changes in instruction execution order must not change how exceptions are raised in progra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no new exception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DD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,R3,R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Q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2,L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1,0(R2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1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ssume branches not delayed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 with mov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f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QZ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Flow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Data flow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actual flow of data values among instructions that produce results and those that consume th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es make flow dynamic, determine which instruction is supplier of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DD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Courier New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R2,R3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EQ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4,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SUBU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Courier New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R5,R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7,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Courier New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R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pen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DDU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SUBU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?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 preserve data flow on exec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oftware Techniques - Examp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162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code, add a scalar to a vecto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=1000; i&gt;0; i=i–1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[i] = x[i] + s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ume following latencies for all examp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elayed branch in these examp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990720" y="3581280"/>
            <a:ext cx="80010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332b7"/>
                </a:solidFill>
                <a:latin typeface="Times New Roman"/>
                <a:ea typeface="ＭＳ ゴシック"/>
              </a:rPr>
              <a:t>Latency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332b7"/>
                </a:solidFill>
                <a:latin typeface="Times New Roman"/>
                <a:ea typeface="ＭＳ ゴシック"/>
              </a:rPr>
              <a:t>stalls betwee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oducing resul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sing resul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 cycl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nother 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tore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ad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ad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tore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teger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teger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P Loop: Where are the Hazards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43000" y="2517480"/>
            <a:ext cx="7696080" cy="182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0,0(R1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F0=vector el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4,F0,F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add scalar from F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(R1),F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store resul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DDU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1,R1,-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decrement pointer 8B (DW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NE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1,Loo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branch R1!=ze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94328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990720" y="1450800"/>
            <a:ext cx="69213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rst translate into MIPS co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To simplify, assume 8 is lowe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P Loop Showing Stall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28520" y="5943600"/>
            <a:ext cx="7048440" cy="39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120024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9 clock cycles: Rewrite code to minimize stalls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990720" y="4419720"/>
            <a:ext cx="7340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atency 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oducing resul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sing resul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lock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nother 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tore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ad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990720" y="1352520"/>
            <a:ext cx="80136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 Loop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0,0(R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F0=vector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,F0,F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add scalar in 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6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0(R1),</a:t>
            </a:r>
            <a:r>
              <a:rPr b="0" lang="en-US" sz="18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store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R1,-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decrement pointer 8B (D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ssumes can’t forward to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9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BNE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Loop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branch R1!=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09440" y="228240"/>
            <a:ext cx="8210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vised FP Loop Minimizing Stall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90360" y="5791320"/>
            <a:ext cx="8001000" cy="37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4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20024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332b7"/>
                </a:solidFill>
                <a:latin typeface="Gill Sans MT"/>
              </a:rPr>
              <a:t>7 clock cycles, but just 3 for execution (L.D, ADD.D,S.D), 4 for loop overhead; How make  faster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1066680" y="4267080"/>
            <a:ext cx="7340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atency 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oducing resul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sing resul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lock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nother 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tore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2057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oad 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 ALU 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990720" y="1486080"/>
            <a:ext cx="808992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 Loop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0,0(R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R1,-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,F0,F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8(R1),</a:t>
            </a:r>
            <a:r>
              <a:rPr b="0" lang="en-US" sz="1800" spc="-1" strike="noStrike">
                <a:solidFill>
                  <a:srgbClr val="3891a7"/>
                </a:solidFill>
                <a:latin typeface="Courier New"/>
                <a:ea typeface="ＭＳ ゴシック"/>
              </a:rPr>
              <a:t>F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;altered offset when move DSUBU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1200240"/>
                <a:tab algn="l" pos="2120760"/>
                <a:tab algn="l" pos="3371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7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BNE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990720" y="3809880"/>
            <a:ext cx="8305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20024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ap DADDUI and S.D by changing address of S.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roll Loop Four Times (straightforward way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413040" y="914040"/>
            <a:ext cx="265428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317520" indent="0">
              <a:spcBef>
                <a:spcPts val="601"/>
              </a:spcBef>
              <a:buNone/>
              <a:tabLst>
                <a:tab algn="l" pos="0"/>
                <a:tab algn="l" pos="120024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ewrite loop to minimize stall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762120" y="1066680"/>
            <a:ext cx="861048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 Loop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0(R1),F4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;drop DSUBUI &amp; B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6,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,F8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;drop DSUBUI &amp; B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10,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1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1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,F12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;drop DSUBUI &amp; BN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14,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-2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(R1),F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DADD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R1,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#-32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ＭＳ ゴシック"/>
              </a:rPr>
              <a:t>;alter to 4*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2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BNE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332b7"/>
                </a:solidFill>
                <a:latin typeface="Arial"/>
                <a:ea typeface="Arial"/>
              </a:rPr>
              <a:t>27 clock cycles, or 6.7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ssumes R1 is multiple of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4690440" y="93564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ゴシック"/>
              </a:rPr>
              <a:t>1 cycle 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4709160" y="13168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891a7"/>
                </a:solidFill>
                <a:latin typeface="Comic Sans MS"/>
                <a:ea typeface="ＭＳ ゴシック"/>
              </a:rPr>
              <a:t>2 cycles st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H="1">
            <a:off x="3836880" y="1165320"/>
            <a:ext cx="914400" cy="22860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H="1">
            <a:off x="3836880" y="1469880"/>
            <a:ext cx="914400" cy="228600"/>
          </a:xfrm>
          <a:prstGeom prst="line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9"/>
          <p:cNvGrpSpPr/>
          <p:nvPr/>
        </p:nvGrpSpPr>
        <p:grpSpPr>
          <a:xfrm>
            <a:off x="1841400" y="1407960"/>
            <a:ext cx="1690920" cy="1090440"/>
            <a:chOff x="1841400" y="1407960"/>
            <a:chExt cx="1690920" cy="1090440"/>
          </a:xfrm>
        </p:grpSpPr>
        <p:grpSp>
          <p:nvGrpSpPr>
            <p:cNvPr id="688" name="Group 10"/>
            <p:cNvGrpSpPr/>
            <p:nvPr/>
          </p:nvGrpSpPr>
          <p:grpSpPr>
            <a:xfrm>
              <a:off x="1855800" y="1407960"/>
              <a:ext cx="1676520" cy="271440"/>
              <a:chOff x="1855800" y="1407960"/>
              <a:chExt cx="1676520" cy="271440"/>
            </a:xfrm>
          </p:grpSpPr>
          <p:sp>
            <p:nvSpPr>
              <p:cNvPr id="689" name="Line 11"/>
              <p:cNvSpPr/>
              <p:nvPr/>
            </p:nvSpPr>
            <p:spPr>
              <a:xfrm>
                <a:off x="1855800" y="1407960"/>
                <a:ext cx="1676520" cy="0"/>
              </a:xfrm>
              <a:prstGeom prst="line">
                <a:avLst/>
              </a:prstGeom>
              <a:ln w="28440">
                <a:solidFill>
                  <a:srgbClr val="8dc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2"/>
              <p:cNvSpPr/>
              <p:nvPr/>
            </p:nvSpPr>
            <p:spPr>
              <a:xfrm>
                <a:off x="1855800" y="1679400"/>
                <a:ext cx="1676520" cy="0"/>
              </a:xfrm>
              <a:prstGeom prst="line">
                <a:avLst/>
              </a:prstGeom>
              <a:ln w="2844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13"/>
            <p:cNvGrpSpPr/>
            <p:nvPr/>
          </p:nvGrpSpPr>
          <p:grpSpPr>
            <a:xfrm>
              <a:off x="1841400" y="2226960"/>
              <a:ext cx="1676520" cy="271440"/>
              <a:chOff x="1841400" y="2226960"/>
              <a:chExt cx="1676520" cy="271440"/>
            </a:xfrm>
          </p:grpSpPr>
          <p:sp>
            <p:nvSpPr>
              <p:cNvPr id="692" name="Line 14"/>
              <p:cNvSpPr/>
              <p:nvPr/>
            </p:nvSpPr>
            <p:spPr>
              <a:xfrm>
                <a:off x="1841400" y="2226960"/>
                <a:ext cx="1676520" cy="0"/>
              </a:xfrm>
              <a:prstGeom prst="line">
                <a:avLst/>
              </a:prstGeom>
              <a:ln w="28440">
                <a:solidFill>
                  <a:srgbClr val="8dc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5"/>
              <p:cNvSpPr/>
              <p:nvPr/>
            </p:nvSpPr>
            <p:spPr>
              <a:xfrm>
                <a:off x="1841400" y="2498400"/>
                <a:ext cx="1676520" cy="0"/>
              </a:xfrm>
              <a:prstGeom prst="line">
                <a:avLst/>
              </a:prstGeom>
              <a:ln w="2844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4" name="Group 16"/>
          <p:cNvGrpSpPr/>
          <p:nvPr/>
        </p:nvGrpSpPr>
        <p:grpSpPr>
          <a:xfrm>
            <a:off x="1827360" y="3062160"/>
            <a:ext cx="1690200" cy="1090440"/>
            <a:chOff x="1827360" y="3062160"/>
            <a:chExt cx="1690200" cy="1090440"/>
          </a:xfrm>
        </p:grpSpPr>
        <p:grpSp>
          <p:nvGrpSpPr>
            <p:cNvPr id="695" name="Group 17"/>
            <p:cNvGrpSpPr/>
            <p:nvPr/>
          </p:nvGrpSpPr>
          <p:grpSpPr>
            <a:xfrm>
              <a:off x="1841400" y="3062160"/>
              <a:ext cx="1676160" cy="271440"/>
              <a:chOff x="1841400" y="3062160"/>
              <a:chExt cx="1676160" cy="271440"/>
            </a:xfrm>
          </p:grpSpPr>
          <p:sp>
            <p:nvSpPr>
              <p:cNvPr id="696" name="Line 18"/>
              <p:cNvSpPr/>
              <p:nvPr/>
            </p:nvSpPr>
            <p:spPr>
              <a:xfrm>
                <a:off x="1841400" y="3062160"/>
                <a:ext cx="1676160" cy="0"/>
              </a:xfrm>
              <a:prstGeom prst="line">
                <a:avLst/>
              </a:prstGeom>
              <a:ln w="28440">
                <a:solidFill>
                  <a:srgbClr val="8dc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9"/>
              <p:cNvSpPr/>
              <p:nvPr/>
            </p:nvSpPr>
            <p:spPr>
              <a:xfrm>
                <a:off x="1841400" y="3333600"/>
                <a:ext cx="1676160" cy="0"/>
              </a:xfrm>
              <a:prstGeom prst="line">
                <a:avLst/>
              </a:prstGeom>
              <a:ln w="2844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8" name="Group 20"/>
            <p:cNvGrpSpPr/>
            <p:nvPr/>
          </p:nvGrpSpPr>
          <p:grpSpPr>
            <a:xfrm>
              <a:off x="1827360" y="3881160"/>
              <a:ext cx="1676160" cy="271440"/>
              <a:chOff x="1827360" y="3881160"/>
              <a:chExt cx="1676160" cy="271440"/>
            </a:xfrm>
          </p:grpSpPr>
          <p:sp>
            <p:nvSpPr>
              <p:cNvPr id="699" name="Line 21"/>
              <p:cNvSpPr/>
              <p:nvPr/>
            </p:nvSpPr>
            <p:spPr>
              <a:xfrm>
                <a:off x="1827360" y="3881160"/>
                <a:ext cx="1676160" cy="0"/>
              </a:xfrm>
              <a:prstGeom prst="line">
                <a:avLst/>
              </a:prstGeom>
              <a:ln w="28440">
                <a:solidFill>
                  <a:srgbClr val="8dc7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2"/>
              <p:cNvSpPr/>
              <p:nvPr/>
            </p:nvSpPr>
            <p:spPr>
              <a:xfrm>
                <a:off x="1827360" y="4152600"/>
                <a:ext cx="1676160" cy="0"/>
              </a:xfrm>
              <a:prstGeom prst="line">
                <a:avLst/>
              </a:prstGeom>
              <a:ln w="28440">
                <a:solidFill>
                  <a:srgbClr val="3891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utlin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iler techniques to increase 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p Unrol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ic Branch Predi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Branch Predi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vercoming Data Hazards with Dynamic Schedu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asulo Algorith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rolled Loop Detai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usually know upper bound of l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it is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we would like to unroll the loop to make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pies of the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ead of a single unrolled loop, we generate a pair of consecutive loop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st executes (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mo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times and has a body that is the original l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nd is the unrolled body surrounded by an outer loop that iterates (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n/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ti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large values of </a:t>
            </a:r>
            <a:r>
              <a:rPr b="0" lang="en-US" sz="2400" spc="-1" strike="noStrike">
                <a:solidFill>
                  <a:srgbClr val="3333cc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most of the execution time will be spent in the unrolled l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047600" y="7596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nrolled Loop That Minimizes Stall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4" name="Rectangle 4"/>
          <p:cNvSpPr/>
          <p:nvPr/>
        </p:nvSpPr>
        <p:spPr>
          <a:xfrm>
            <a:off x="673200" y="1143000"/>
            <a:ext cx="8458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1017720" y="1143000"/>
            <a:ext cx="667836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 Loop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6,-8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10,-16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14,-24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(R1),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8(R1),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-16(R1),F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SUBU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1,R1,#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.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Courier New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R1),F16 </a:t>
            </a:r>
            <a:r>
              <a:rPr b="0" lang="en-US" sz="1800" spc="-1" strike="noStrike">
                <a:solidFill>
                  <a:srgbClr val="feb80a"/>
                </a:solidFill>
                <a:latin typeface="Courier New"/>
                <a:ea typeface="Courier New"/>
              </a:rPr>
              <a:t>; 8-32 = -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NEZ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332b7"/>
                </a:solidFill>
                <a:latin typeface="Arial"/>
                <a:ea typeface="Arial"/>
              </a:rPr>
              <a:t>14 clock cycles, or 3.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5 Loop Unrolling Decis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90360" y="9903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s understanding how one instruction depends on another and how the instructions can be changed or reordered given the dependenc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loop unrolling useful by finding that loop iterations were independent (except for maintenance cod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different registers to avoid unnecessary constraints forced by using same registers for different computation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iminate the extra test and branch instructions and adjust the loop termination and iteration co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 that loads and stores in unrolled loop can be interchanged by observing that loads and stores from different iterations are independent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3360" indent="-2772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 requires analyzing memory addresses and finding that they do not refer to the same addr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320" indent="-346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edule the code, preserving any dependences needed to yield the same result as the original cod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3 Limits to Loop Unroll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e in amount of overhead amortized with each extra unrol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68240" indent="-32904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dahl’s La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8840" indent="-4388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wth in code siz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68240" indent="-32904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larger loops, concern it increases the instruction cache miss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8840" indent="-4388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Register pressu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potential shortfall in registers created by aggressive unrolling and schedu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68240" indent="-329040">
              <a:spcBef>
                <a:spcPts val="550"/>
              </a:spcBef>
              <a:buClr>
                <a:srgbClr val="3891a7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ot be possible to allocate all live values to registers, may lose some or all of its advant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38840" indent="-438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p unrolling reduces impact of branches on pipeline; another way i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branch predi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2438280" y="2895480"/>
          <a:ext cx="6172200" cy="3686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2895480"/>
                    <a:ext cx="61722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12320" y="15228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tatic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680" y="990360"/>
            <a:ext cx="7848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cture 3 showed scheduling code around delayed branc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reorder code around branches, need to predict branch statically when compil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mplest scheme is to predict a branch as tak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erage misprediction = untaken branch frequency = 34% SPEC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609480" y="3352680"/>
            <a:ext cx="22100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ore accurate scheme predicts branches using profile information collected from earlier runs, and modify prediction based on last ru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4043520" y="62150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8"/>
          <p:cNvSpPr/>
          <p:nvPr/>
        </p:nvSpPr>
        <p:spPr>
          <a:xfrm>
            <a:off x="6407640" y="621504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loating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6019920" y="617076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0"/>
          <p:cNvSpPr/>
          <p:nvPr/>
        </p:nvSpPr>
        <p:spPr>
          <a:xfrm>
            <a:off x="3429000" y="617076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y does prediction work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derlying algorithm has regular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that is being operated on has regular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uction sequence has redundancies that are artifacts of way that humans/compilers think about probl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dynamic branch prediction better than static branch predic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ms to b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re are a small number of important branches in programs which have dynamic behavi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8013600" cy="322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formance = ƒ(accuracy, cost of mispredi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History Table: Lower bits of PC address index table of 1-bit val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ys whether or not branch taken la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address che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200" indent="-2145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blem: in a loop, 1-bit BHT will cause two mispredictions (avg is 9 iteratios before exi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 of loop case, when it exits instead of  looping as befo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86000" indent="-179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st time through loop on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through code, when it predicts exit instead of loop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/>
          </p:nvPr>
        </p:nvSpPr>
        <p:spPr>
          <a:xfrm>
            <a:off x="996840" y="1219320"/>
            <a:ext cx="7918560" cy="322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lution: 2-bit scheme where change prediction only if get mispredic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w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d: stop, not tak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een: go, tak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4440" indent="-189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s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hysteresi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cision mak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2521080" y="29527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2521080" y="29527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2521080" y="29527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2521080" y="2952720"/>
            <a:ext cx="1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8"/>
          <p:cNvGrpSpPr/>
          <p:nvPr/>
        </p:nvGrpSpPr>
        <p:grpSpPr>
          <a:xfrm>
            <a:off x="1411920" y="1968480"/>
            <a:ext cx="6696000" cy="3060720"/>
            <a:chOff x="1411920" y="1968480"/>
            <a:chExt cx="6696000" cy="3060720"/>
          </a:xfrm>
        </p:grpSpPr>
        <p:sp>
          <p:nvSpPr>
            <p:cNvPr id="730" name="Rectangle 9"/>
            <p:cNvSpPr/>
            <p:nvPr/>
          </p:nvSpPr>
          <p:spPr>
            <a:xfrm>
              <a:off x="3902040" y="196848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b80a"/>
                  </a:solidFill>
                  <a:latin typeface="Times New Roman"/>
                  <a:ea typeface="ＭＳ ゴシック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0"/>
            <p:cNvSpPr/>
            <p:nvPr/>
          </p:nvSpPr>
          <p:spPr>
            <a:xfrm>
              <a:off x="3055680" y="3327120"/>
              <a:ext cx="336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b80a"/>
                  </a:solidFill>
                  <a:latin typeface="Times New Roman"/>
                  <a:ea typeface="ＭＳ ゴシック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1"/>
            <p:cNvSpPr/>
            <p:nvPr/>
          </p:nvSpPr>
          <p:spPr>
            <a:xfrm>
              <a:off x="6090840" y="335268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Rectangle 12"/>
            <p:cNvSpPr/>
            <p:nvPr/>
          </p:nvSpPr>
          <p:spPr>
            <a:xfrm>
              <a:off x="5806800" y="463536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Rectangle 13"/>
            <p:cNvSpPr/>
            <p:nvPr/>
          </p:nvSpPr>
          <p:spPr>
            <a:xfrm>
              <a:off x="1411920" y="2958840"/>
              <a:ext cx="1603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b80a"/>
                  </a:solidFill>
                  <a:latin typeface="Times New Roman"/>
                  <a:ea typeface="ＭＳ ゴシック"/>
                </a:rPr>
                <a:t>Predict Ta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14"/>
            <p:cNvSpPr/>
            <p:nvPr/>
          </p:nvSpPr>
          <p:spPr>
            <a:xfrm>
              <a:off x="1651320" y="3746520"/>
              <a:ext cx="1413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Predict No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Ta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15"/>
            <p:cNvSpPr/>
            <p:nvPr/>
          </p:nvSpPr>
          <p:spPr>
            <a:xfrm>
              <a:off x="6504480" y="2958840"/>
              <a:ext cx="1603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eb80a"/>
                  </a:solidFill>
                  <a:latin typeface="Times New Roman"/>
                  <a:ea typeface="ＭＳ ゴシック"/>
                </a:rPr>
                <a:t>Predict Ta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16"/>
            <p:cNvSpPr/>
            <p:nvPr/>
          </p:nvSpPr>
          <p:spPr>
            <a:xfrm>
              <a:off x="6439320" y="3708360"/>
              <a:ext cx="1413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Predict No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Tak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17"/>
            <p:cNvSpPr/>
            <p:nvPr/>
          </p:nvSpPr>
          <p:spPr>
            <a:xfrm>
              <a:off x="3127320" y="2882880"/>
              <a:ext cx="1270080" cy="507960"/>
            </a:xfrm>
            <a:prstGeom prst="ellipse">
              <a:avLst/>
            </a:prstGeom>
            <a:solidFill>
              <a:srgbClr val="feb8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18"/>
            <p:cNvSpPr/>
            <p:nvPr/>
          </p:nvSpPr>
          <p:spPr>
            <a:xfrm>
              <a:off x="5146560" y="2895480"/>
              <a:ext cx="1270080" cy="507960"/>
            </a:xfrm>
            <a:prstGeom prst="ellipse">
              <a:avLst/>
            </a:prstGeom>
            <a:solidFill>
              <a:srgbClr val="feb8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19"/>
            <p:cNvSpPr/>
            <p:nvPr/>
          </p:nvSpPr>
          <p:spPr>
            <a:xfrm>
              <a:off x="3152520" y="3632040"/>
              <a:ext cx="1270080" cy="507960"/>
            </a:xfrm>
            <a:prstGeom prst="ellipse">
              <a:avLst/>
            </a:prstGeom>
            <a:solidFill>
              <a:srgbClr val="8dc76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20"/>
            <p:cNvSpPr/>
            <p:nvPr/>
          </p:nvSpPr>
          <p:spPr>
            <a:xfrm>
              <a:off x="5159160" y="3632040"/>
              <a:ext cx="1270080" cy="507960"/>
            </a:xfrm>
            <a:prstGeom prst="ellipse">
              <a:avLst/>
            </a:prstGeom>
            <a:solidFill>
              <a:srgbClr val="8dc76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Arc 21"/>
            <p:cNvSpPr/>
            <p:nvPr/>
          </p:nvSpPr>
          <p:spPr>
            <a:xfrm>
              <a:off x="3474720" y="2365200"/>
              <a:ext cx="762120" cy="554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Arc 22"/>
            <p:cNvSpPr/>
            <p:nvPr/>
          </p:nvSpPr>
          <p:spPr>
            <a:xfrm flipH="1" flipV="1">
              <a:off x="5502240" y="4101120"/>
              <a:ext cx="761760" cy="554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Group 23"/>
            <p:cNvGrpSpPr/>
            <p:nvPr/>
          </p:nvGrpSpPr>
          <p:grpSpPr>
            <a:xfrm>
              <a:off x="4434840" y="3441600"/>
              <a:ext cx="762480" cy="865440"/>
              <a:chOff x="4434840" y="3441600"/>
              <a:chExt cx="762480" cy="865440"/>
            </a:xfrm>
          </p:grpSpPr>
          <p:sp>
            <p:nvSpPr>
              <p:cNvPr id="745" name="Line 24"/>
              <p:cNvSpPr/>
              <p:nvPr/>
            </p:nvSpPr>
            <p:spPr>
              <a:xfrm flipH="1">
                <a:off x="4434840" y="394956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25"/>
              <p:cNvSpPr/>
              <p:nvPr/>
            </p:nvSpPr>
            <p:spPr>
              <a:xfrm>
                <a:off x="4628880" y="3913200"/>
                <a:ext cx="33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eb80a"/>
                    </a:solidFill>
                    <a:latin typeface="Times New Roman"/>
                    <a:ea typeface="ＭＳ ゴシック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Rectangle 26"/>
              <p:cNvSpPr/>
              <p:nvPr/>
            </p:nvSpPr>
            <p:spPr>
              <a:xfrm>
                <a:off x="4536720" y="3441600"/>
                <a:ext cx="521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27"/>
              <p:cNvSpPr/>
              <p:nvPr/>
            </p:nvSpPr>
            <p:spPr>
              <a:xfrm>
                <a:off x="4435200" y="37972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8"/>
            <p:cNvGrpSpPr/>
            <p:nvPr/>
          </p:nvGrpSpPr>
          <p:grpSpPr>
            <a:xfrm>
              <a:off x="4422240" y="2697120"/>
              <a:ext cx="762480" cy="865440"/>
              <a:chOff x="4422240" y="2697120"/>
              <a:chExt cx="762480" cy="865440"/>
            </a:xfrm>
          </p:grpSpPr>
          <p:sp>
            <p:nvSpPr>
              <p:cNvPr id="750" name="Line 29"/>
              <p:cNvSpPr/>
              <p:nvPr/>
            </p:nvSpPr>
            <p:spPr>
              <a:xfrm flipH="1">
                <a:off x="4422240" y="3205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Rectangle 30"/>
              <p:cNvSpPr/>
              <p:nvPr/>
            </p:nvSpPr>
            <p:spPr>
              <a:xfrm>
                <a:off x="4616280" y="3168720"/>
                <a:ext cx="33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eb80a"/>
                    </a:solidFill>
                    <a:latin typeface="Times New Roman"/>
                    <a:ea typeface="ＭＳ ゴシック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31"/>
              <p:cNvSpPr/>
              <p:nvPr/>
            </p:nvSpPr>
            <p:spPr>
              <a:xfrm>
                <a:off x="4524120" y="2697120"/>
                <a:ext cx="521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Line 32"/>
              <p:cNvSpPr/>
              <p:nvPr/>
            </p:nvSpPr>
            <p:spPr>
              <a:xfrm>
                <a:off x="4422600" y="305280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Line 33"/>
            <p:cNvSpPr/>
            <p:nvPr/>
          </p:nvSpPr>
          <p:spPr>
            <a:xfrm flipV="1">
              <a:off x="3749400" y="3415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34"/>
            <p:cNvSpPr/>
            <p:nvPr/>
          </p:nvSpPr>
          <p:spPr>
            <a:xfrm>
              <a:off x="5806800" y="3416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6" name=""/>
          <p:cNvGraphicFramePr/>
          <p:nvPr/>
        </p:nvGraphicFramePr>
        <p:xfrm>
          <a:off x="2133720" y="2666880"/>
          <a:ext cx="6705360" cy="400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666880"/>
                    <a:ext cx="670536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12320" y="152280"/>
            <a:ext cx="729324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HT Accurac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990360" y="8377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spredict because eith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6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rong guess for that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0640" indent="-196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t branch history of wrong branch when index the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2760" indent="-2343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096 entry tab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0" name="Text Box 6"/>
          <p:cNvSpPr/>
          <p:nvPr/>
        </p:nvSpPr>
        <p:spPr>
          <a:xfrm>
            <a:off x="3657600" y="64008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7"/>
          <p:cNvSpPr/>
          <p:nvPr/>
        </p:nvSpPr>
        <p:spPr>
          <a:xfrm>
            <a:off x="6105600" y="640080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loating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8"/>
          <p:cNvSpPr/>
          <p:nvPr/>
        </p:nvSpPr>
        <p:spPr>
          <a:xfrm>
            <a:off x="5410080" y="6400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9"/>
          <p:cNvSpPr/>
          <p:nvPr/>
        </p:nvSpPr>
        <p:spPr>
          <a:xfrm>
            <a:off x="3200400" y="64008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90360" y="759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rrelated Branch Predic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a:  recor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st recently executed branches as taken or not taken, and use that pattern to select the prop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branch history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general, (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predictor means record la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anches to select betwee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istory tables, each with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coun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us, old 2-bit BHT is a (0,2) predi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lobal Branch History: 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-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t shift register keeping T/NT status of la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anche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entry in table ha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-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t predictor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call from Pipelining Review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 CPI = Ideal pipeline CPI + Structural Stalls + Data Hazard Stalls + Control Sta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Ideal pipeline CP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measure of the maximum performance attainable by the imple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Structural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HW cannot support this combination of instru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Data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Instruction depends on result of prior instruction still in the pipe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Control hazard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aused by delay between the fetching of instructions and decisions about changes in control flow (branches and jump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12320" y="377640"/>
            <a:ext cx="729324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rrelating Branch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1092240" y="1523880"/>
            <a:ext cx="304812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(2,2) predi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39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ehavior of recent branches selects between four predictions of next branch, updating just that 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4621320" y="1562040"/>
            <a:ext cx="21016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ranch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962520" y="24256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-bits per branch predi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6"/>
          <p:cNvSpPr/>
          <p:nvPr/>
        </p:nvSpPr>
        <p:spPr>
          <a:xfrm>
            <a:off x="4478400" y="35654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7"/>
          <p:cNvSpPr/>
          <p:nvPr/>
        </p:nvSpPr>
        <p:spPr>
          <a:xfrm>
            <a:off x="5070600" y="335448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8"/>
          <p:cNvSpPr/>
          <p:nvPr/>
        </p:nvSpPr>
        <p:spPr>
          <a:xfrm>
            <a:off x="5070600" y="324972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5070600" y="31449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0"/>
          <p:cNvSpPr/>
          <p:nvPr/>
        </p:nvSpPr>
        <p:spPr>
          <a:xfrm>
            <a:off x="5070600" y="30384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1"/>
          <p:cNvSpPr/>
          <p:nvPr/>
        </p:nvSpPr>
        <p:spPr>
          <a:xfrm>
            <a:off x="5070600" y="29336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12"/>
          <p:cNvSpPr/>
          <p:nvPr/>
        </p:nvSpPr>
        <p:spPr>
          <a:xfrm>
            <a:off x="5070600" y="282888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13"/>
          <p:cNvSpPr/>
          <p:nvPr/>
        </p:nvSpPr>
        <p:spPr>
          <a:xfrm>
            <a:off x="5070600" y="2725560"/>
            <a:ext cx="414360" cy="1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14"/>
          <p:cNvSpPr/>
          <p:nvPr/>
        </p:nvSpPr>
        <p:spPr>
          <a:xfrm>
            <a:off x="4478400" y="3460680"/>
            <a:ext cx="414360" cy="10476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15"/>
          <p:cNvSpPr/>
          <p:nvPr/>
        </p:nvSpPr>
        <p:spPr>
          <a:xfrm>
            <a:off x="4478400" y="335448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6"/>
          <p:cNvSpPr/>
          <p:nvPr/>
        </p:nvSpPr>
        <p:spPr>
          <a:xfrm>
            <a:off x="4478400" y="324972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17"/>
          <p:cNvSpPr/>
          <p:nvPr/>
        </p:nvSpPr>
        <p:spPr>
          <a:xfrm>
            <a:off x="4478400" y="31449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8"/>
          <p:cNvSpPr/>
          <p:nvPr/>
        </p:nvSpPr>
        <p:spPr>
          <a:xfrm>
            <a:off x="4478400" y="30384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19"/>
          <p:cNvSpPr/>
          <p:nvPr/>
        </p:nvSpPr>
        <p:spPr>
          <a:xfrm>
            <a:off x="4478400" y="29336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20"/>
          <p:cNvSpPr/>
          <p:nvPr/>
        </p:nvSpPr>
        <p:spPr>
          <a:xfrm>
            <a:off x="4478400" y="282888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21"/>
          <p:cNvSpPr/>
          <p:nvPr/>
        </p:nvSpPr>
        <p:spPr>
          <a:xfrm>
            <a:off x="4478400" y="2725560"/>
            <a:ext cx="414360" cy="1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22"/>
          <p:cNvSpPr/>
          <p:nvPr/>
        </p:nvSpPr>
        <p:spPr>
          <a:xfrm>
            <a:off x="4478400" y="37767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23"/>
          <p:cNvSpPr/>
          <p:nvPr/>
        </p:nvSpPr>
        <p:spPr>
          <a:xfrm>
            <a:off x="4478400" y="36702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24"/>
          <p:cNvSpPr/>
          <p:nvPr/>
        </p:nvSpPr>
        <p:spPr>
          <a:xfrm>
            <a:off x="4478400" y="3881520"/>
            <a:ext cx="414360" cy="10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25"/>
          <p:cNvSpPr/>
          <p:nvPr/>
        </p:nvSpPr>
        <p:spPr>
          <a:xfrm>
            <a:off x="5070600" y="37767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6"/>
          <p:cNvSpPr/>
          <p:nvPr/>
        </p:nvSpPr>
        <p:spPr>
          <a:xfrm>
            <a:off x="5070600" y="36702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27"/>
          <p:cNvSpPr/>
          <p:nvPr/>
        </p:nvSpPr>
        <p:spPr>
          <a:xfrm>
            <a:off x="5070600" y="35654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28"/>
          <p:cNvSpPr/>
          <p:nvPr/>
        </p:nvSpPr>
        <p:spPr>
          <a:xfrm>
            <a:off x="5070600" y="3460680"/>
            <a:ext cx="414360" cy="104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29"/>
          <p:cNvSpPr/>
          <p:nvPr/>
        </p:nvSpPr>
        <p:spPr>
          <a:xfrm>
            <a:off x="4478400" y="430056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0"/>
          <p:cNvSpPr/>
          <p:nvPr/>
        </p:nvSpPr>
        <p:spPr>
          <a:xfrm>
            <a:off x="4478400" y="419580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31"/>
          <p:cNvSpPr/>
          <p:nvPr/>
        </p:nvSpPr>
        <p:spPr>
          <a:xfrm>
            <a:off x="4478400" y="40910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32"/>
          <p:cNvSpPr/>
          <p:nvPr/>
        </p:nvSpPr>
        <p:spPr>
          <a:xfrm>
            <a:off x="4478400" y="398448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33"/>
          <p:cNvSpPr/>
          <p:nvPr/>
        </p:nvSpPr>
        <p:spPr>
          <a:xfrm>
            <a:off x="5070600" y="419580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34"/>
          <p:cNvSpPr/>
          <p:nvPr/>
        </p:nvSpPr>
        <p:spPr>
          <a:xfrm>
            <a:off x="5070600" y="40910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5"/>
          <p:cNvSpPr/>
          <p:nvPr/>
        </p:nvSpPr>
        <p:spPr>
          <a:xfrm>
            <a:off x="5070600" y="398448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6"/>
          <p:cNvSpPr/>
          <p:nvPr/>
        </p:nvSpPr>
        <p:spPr>
          <a:xfrm>
            <a:off x="5070600" y="3881520"/>
            <a:ext cx="414360" cy="10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7"/>
          <p:cNvSpPr/>
          <p:nvPr/>
        </p:nvSpPr>
        <p:spPr>
          <a:xfrm>
            <a:off x="5070600" y="430056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38"/>
          <p:cNvSpPr/>
          <p:nvPr/>
        </p:nvSpPr>
        <p:spPr>
          <a:xfrm>
            <a:off x="5662440" y="419580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9"/>
          <p:cNvSpPr/>
          <p:nvPr/>
        </p:nvSpPr>
        <p:spPr>
          <a:xfrm>
            <a:off x="5662440" y="40910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40"/>
          <p:cNvSpPr/>
          <p:nvPr/>
        </p:nvSpPr>
        <p:spPr>
          <a:xfrm>
            <a:off x="5662440" y="398448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1"/>
          <p:cNvSpPr/>
          <p:nvPr/>
        </p:nvSpPr>
        <p:spPr>
          <a:xfrm>
            <a:off x="5662440" y="3881520"/>
            <a:ext cx="414360" cy="10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2"/>
          <p:cNvSpPr/>
          <p:nvPr/>
        </p:nvSpPr>
        <p:spPr>
          <a:xfrm>
            <a:off x="5662440" y="37767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43"/>
          <p:cNvSpPr/>
          <p:nvPr/>
        </p:nvSpPr>
        <p:spPr>
          <a:xfrm>
            <a:off x="5662440" y="36702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44"/>
          <p:cNvSpPr/>
          <p:nvPr/>
        </p:nvSpPr>
        <p:spPr>
          <a:xfrm>
            <a:off x="5662440" y="35654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45"/>
          <p:cNvSpPr/>
          <p:nvPr/>
        </p:nvSpPr>
        <p:spPr>
          <a:xfrm>
            <a:off x="5662440" y="3460680"/>
            <a:ext cx="414360" cy="10476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6"/>
          <p:cNvSpPr/>
          <p:nvPr/>
        </p:nvSpPr>
        <p:spPr>
          <a:xfrm>
            <a:off x="6254640" y="2725560"/>
            <a:ext cx="414360" cy="1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47"/>
          <p:cNvSpPr/>
          <p:nvPr/>
        </p:nvSpPr>
        <p:spPr>
          <a:xfrm>
            <a:off x="5662440" y="335448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48"/>
          <p:cNvSpPr/>
          <p:nvPr/>
        </p:nvSpPr>
        <p:spPr>
          <a:xfrm>
            <a:off x="5662440" y="324972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49"/>
          <p:cNvSpPr/>
          <p:nvPr/>
        </p:nvSpPr>
        <p:spPr>
          <a:xfrm>
            <a:off x="5662440" y="31449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50"/>
          <p:cNvSpPr/>
          <p:nvPr/>
        </p:nvSpPr>
        <p:spPr>
          <a:xfrm>
            <a:off x="5662440" y="30384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5662440" y="29336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5662440" y="282888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5662440" y="2725560"/>
            <a:ext cx="414360" cy="10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5662440" y="430056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55"/>
          <p:cNvSpPr/>
          <p:nvPr/>
        </p:nvSpPr>
        <p:spPr>
          <a:xfrm>
            <a:off x="6254640" y="30384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56"/>
          <p:cNvSpPr/>
          <p:nvPr/>
        </p:nvSpPr>
        <p:spPr>
          <a:xfrm>
            <a:off x="6254640" y="29336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57"/>
          <p:cNvSpPr/>
          <p:nvPr/>
        </p:nvSpPr>
        <p:spPr>
          <a:xfrm>
            <a:off x="6254640" y="282888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58"/>
          <p:cNvSpPr/>
          <p:nvPr/>
        </p:nvSpPr>
        <p:spPr>
          <a:xfrm>
            <a:off x="6254640" y="335448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59"/>
          <p:cNvSpPr/>
          <p:nvPr/>
        </p:nvSpPr>
        <p:spPr>
          <a:xfrm>
            <a:off x="6254640" y="324972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60"/>
          <p:cNvSpPr/>
          <p:nvPr/>
        </p:nvSpPr>
        <p:spPr>
          <a:xfrm>
            <a:off x="6254640" y="31449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61"/>
          <p:cNvSpPr/>
          <p:nvPr/>
        </p:nvSpPr>
        <p:spPr>
          <a:xfrm>
            <a:off x="6254640" y="377676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62"/>
          <p:cNvSpPr/>
          <p:nvPr/>
        </p:nvSpPr>
        <p:spPr>
          <a:xfrm>
            <a:off x="6254640" y="367020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63"/>
          <p:cNvSpPr/>
          <p:nvPr/>
        </p:nvSpPr>
        <p:spPr>
          <a:xfrm>
            <a:off x="6254640" y="35654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64"/>
          <p:cNvSpPr/>
          <p:nvPr/>
        </p:nvSpPr>
        <p:spPr>
          <a:xfrm>
            <a:off x="6254640" y="3460680"/>
            <a:ext cx="414360" cy="104760"/>
          </a:xfrm>
          <a:prstGeom prst="rect">
            <a:avLst/>
          </a:prstGeom>
          <a:solidFill>
            <a:srgbClr val="e7de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65"/>
          <p:cNvSpPr/>
          <p:nvPr/>
        </p:nvSpPr>
        <p:spPr>
          <a:xfrm>
            <a:off x="6254640" y="409104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66"/>
          <p:cNvSpPr/>
          <p:nvPr/>
        </p:nvSpPr>
        <p:spPr>
          <a:xfrm>
            <a:off x="6254640" y="3984480"/>
            <a:ext cx="414360" cy="1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67"/>
          <p:cNvSpPr/>
          <p:nvPr/>
        </p:nvSpPr>
        <p:spPr>
          <a:xfrm>
            <a:off x="6254640" y="3881520"/>
            <a:ext cx="414360" cy="102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68"/>
          <p:cNvSpPr/>
          <p:nvPr/>
        </p:nvSpPr>
        <p:spPr>
          <a:xfrm>
            <a:off x="6254640" y="4300560"/>
            <a:ext cx="414360" cy="1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69"/>
          <p:cNvSpPr/>
          <p:nvPr/>
        </p:nvSpPr>
        <p:spPr>
          <a:xfrm>
            <a:off x="6254640" y="4195800"/>
            <a:ext cx="41436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4" name="AutoShape 70"/>
          <p:cNvCxnSpPr/>
          <p:nvPr/>
        </p:nvCxnSpPr>
        <p:spPr>
          <a:xfrm flipV="1" rot="10800000">
            <a:off x="4403160" y="2236680"/>
            <a:ext cx="1262520" cy="1276920"/>
          </a:xfrm>
          <a:prstGeom prst="bentConnector3">
            <a:avLst>
              <a:gd name="adj1" fmla="val 1221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5" name="Line 71"/>
          <p:cNvSpPr/>
          <p:nvPr/>
        </p:nvSpPr>
        <p:spPr>
          <a:xfrm flipV="1">
            <a:off x="6651720" y="3512880"/>
            <a:ext cx="29664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72"/>
          <p:cNvSpPr/>
          <p:nvPr/>
        </p:nvSpPr>
        <p:spPr>
          <a:xfrm>
            <a:off x="7024680" y="3460680"/>
            <a:ext cx="414360" cy="10476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73"/>
          <p:cNvSpPr/>
          <p:nvPr/>
        </p:nvSpPr>
        <p:spPr>
          <a:xfrm>
            <a:off x="7485120" y="3317760"/>
            <a:ext cx="13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redi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74"/>
          <p:cNvSpPr/>
          <p:nvPr/>
        </p:nvSpPr>
        <p:spPr>
          <a:xfrm>
            <a:off x="4419720" y="5284800"/>
            <a:ext cx="3017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-bit global branch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AutoShape 75"/>
          <p:cNvCxnSpPr>
            <a:endCxn id="801" idx="2"/>
          </p:cNvCxnSpPr>
          <p:nvPr/>
        </p:nvCxnSpPr>
        <p:spPr>
          <a:xfrm flipV="1">
            <a:off x="5277960" y="4406040"/>
            <a:ext cx="1080" cy="51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0" name="Line 76"/>
          <p:cNvSpPr/>
          <p:nvPr/>
        </p:nvSpPr>
        <p:spPr>
          <a:xfrm flipV="1">
            <a:off x="5672160" y="1882440"/>
            <a:ext cx="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77"/>
          <p:cNvSpPr/>
          <p:nvPr/>
        </p:nvSpPr>
        <p:spPr>
          <a:xfrm>
            <a:off x="5535720" y="2023920"/>
            <a:ext cx="30312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Text Box 78"/>
          <p:cNvSpPr/>
          <p:nvPr/>
        </p:nvSpPr>
        <p:spPr>
          <a:xfrm>
            <a:off x="5838840" y="1909800"/>
            <a:ext cx="3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Text Box 79"/>
          <p:cNvSpPr/>
          <p:nvPr/>
        </p:nvSpPr>
        <p:spPr>
          <a:xfrm>
            <a:off x="7147080" y="206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Group 80"/>
          <p:cNvGrpSpPr/>
          <p:nvPr/>
        </p:nvGrpSpPr>
        <p:grpSpPr>
          <a:xfrm>
            <a:off x="4680000" y="4915080"/>
            <a:ext cx="1212840" cy="349200"/>
            <a:chOff x="4680000" y="4915080"/>
            <a:chExt cx="1212840" cy="349200"/>
          </a:xfrm>
        </p:grpSpPr>
        <p:sp>
          <p:nvSpPr>
            <p:cNvPr id="845" name="Line 81"/>
            <p:cNvSpPr/>
            <p:nvPr/>
          </p:nvSpPr>
          <p:spPr>
            <a:xfrm>
              <a:off x="5289840" y="4927680"/>
              <a:ext cx="59688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82"/>
            <p:cNvSpPr/>
            <p:nvPr/>
          </p:nvSpPr>
          <p:spPr>
            <a:xfrm flipV="1">
              <a:off x="4680000" y="4915080"/>
              <a:ext cx="60336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Rectangle 83"/>
            <p:cNvSpPr/>
            <p:nvPr/>
          </p:nvSpPr>
          <p:spPr>
            <a:xfrm>
              <a:off x="4680000" y="5118120"/>
              <a:ext cx="1212840" cy="14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84"/>
            <p:cNvSpPr/>
            <p:nvPr/>
          </p:nvSpPr>
          <p:spPr>
            <a:xfrm>
              <a:off x="5286600" y="5124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1366920" y="4778280"/>
            <a:ext cx="490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 rot="16200000">
            <a:off x="-461160" y="3110760"/>
            <a:ext cx="333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requency of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ゴシック"/>
              </a:rPr>
              <a:t>Mispredi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1866960" y="4795920"/>
            <a:ext cx="183960" cy="16020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3164040" y="4795920"/>
            <a:ext cx="185760" cy="16020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6"/>
          <p:cNvSpPr/>
          <p:nvPr/>
        </p:nvSpPr>
        <p:spPr>
          <a:xfrm>
            <a:off x="3807000" y="4127400"/>
            <a:ext cx="185400" cy="82872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4449600" y="3471840"/>
            <a:ext cx="185760" cy="148428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8"/>
          <p:cNvSpPr/>
          <p:nvPr/>
        </p:nvSpPr>
        <p:spPr>
          <a:xfrm>
            <a:off x="5105520" y="3471840"/>
            <a:ext cx="183960" cy="148428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5748480" y="2976480"/>
            <a:ext cx="183960" cy="197964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6389640" y="4127400"/>
            <a:ext cx="185760" cy="82872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7032600" y="1996920"/>
            <a:ext cx="185760" cy="295920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7688160" y="3309840"/>
            <a:ext cx="185760" cy="164628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3992400" y="4127400"/>
            <a:ext cx="185760" cy="82872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4635360" y="3471840"/>
            <a:ext cx="196920" cy="148428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5289480" y="3471840"/>
            <a:ext cx="185760" cy="148428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5932440" y="3147840"/>
            <a:ext cx="185760" cy="180828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7"/>
          <p:cNvSpPr/>
          <p:nvPr/>
        </p:nvSpPr>
        <p:spPr>
          <a:xfrm>
            <a:off x="6575400" y="4127400"/>
            <a:ext cx="185760" cy="82872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18"/>
          <p:cNvSpPr/>
          <p:nvPr/>
        </p:nvSpPr>
        <p:spPr>
          <a:xfrm>
            <a:off x="7218360" y="1996920"/>
            <a:ext cx="198360" cy="295920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19"/>
          <p:cNvSpPr/>
          <p:nvPr/>
        </p:nvSpPr>
        <p:spPr>
          <a:xfrm>
            <a:off x="7873920" y="3309840"/>
            <a:ext cx="185760" cy="164628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0"/>
          <p:cNvSpPr/>
          <p:nvPr/>
        </p:nvSpPr>
        <p:spPr>
          <a:xfrm>
            <a:off x="2236680" y="4795920"/>
            <a:ext cx="185760" cy="16020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21"/>
          <p:cNvSpPr/>
          <p:nvPr/>
        </p:nvSpPr>
        <p:spPr>
          <a:xfrm>
            <a:off x="3535200" y="4795920"/>
            <a:ext cx="185760" cy="16020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2"/>
          <p:cNvSpPr/>
          <p:nvPr/>
        </p:nvSpPr>
        <p:spPr>
          <a:xfrm>
            <a:off x="4178160" y="4127400"/>
            <a:ext cx="185760" cy="8287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3"/>
          <p:cNvSpPr/>
          <p:nvPr/>
        </p:nvSpPr>
        <p:spPr>
          <a:xfrm>
            <a:off x="4832280" y="3967200"/>
            <a:ext cx="185760" cy="9889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24"/>
          <p:cNvSpPr/>
          <p:nvPr/>
        </p:nvSpPr>
        <p:spPr>
          <a:xfrm>
            <a:off x="5475240" y="3967200"/>
            <a:ext cx="185760" cy="9889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25"/>
          <p:cNvSpPr/>
          <p:nvPr/>
        </p:nvSpPr>
        <p:spPr>
          <a:xfrm>
            <a:off x="6118200" y="3147840"/>
            <a:ext cx="185760" cy="180828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26"/>
          <p:cNvSpPr/>
          <p:nvPr/>
        </p:nvSpPr>
        <p:spPr>
          <a:xfrm>
            <a:off x="6761160" y="4300560"/>
            <a:ext cx="185760" cy="65556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27"/>
          <p:cNvSpPr/>
          <p:nvPr/>
        </p:nvSpPr>
        <p:spPr>
          <a:xfrm>
            <a:off x="7416720" y="3967200"/>
            <a:ext cx="185760" cy="9889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28"/>
          <p:cNvSpPr/>
          <p:nvPr/>
        </p:nvSpPr>
        <p:spPr>
          <a:xfrm>
            <a:off x="8059680" y="4127400"/>
            <a:ext cx="184320" cy="82872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29"/>
          <p:cNvSpPr/>
          <p:nvPr/>
        </p:nvSpPr>
        <p:spPr>
          <a:xfrm>
            <a:off x="1828800" y="1663560"/>
            <a:ext cx="1440" cy="32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30"/>
          <p:cNvSpPr/>
          <p:nvPr/>
        </p:nvSpPr>
        <p:spPr>
          <a:xfrm>
            <a:off x="1792440" y="495612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Line 31"/>
          <p:cNvSpPr/>
          <p:nvPr/>
        </p:nvSpPr>
        <p:spPr>
          <a:xfrm>
            <a:off x="1792440" y="462276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Line 32"/>
          <p:cNvSpPr/>
          <p:nvPr/>
        </p:nvSpPr>
        <p:spPr>
          <a:xfrm>
            <a:off x="1792440" y="430056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Line 33"/>
          <p:cNvSpPr/>
          <p:nvPr/>
        </p:nvSpPr>
        <p:spPr>
          <a:xfrm>
            <a:off x="1792440" y="396720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Line 34"/>
          <p:cNvSpPr/>
          <p:nvPr/>
        </p:nvSpPr>
        <p:spPr>
          <a:xfrm>
            <a:off x="1792440" y="364320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Line 35"/>
          <p:cNvSpPr/>
          <p:nvPr/>
        </p:nvSpPr>
        <p:spPr>
          <a:xfrm>
            <a:off x="1792440" y="330984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Line 36"/>
          <p:cNvSpPr/>
          <p:nvPr/>
        </p:nvSpPr>
        <p:spPr>
          <a:xfrm>
            <a:off x="1792440" y="297648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37"/>
          <p:cNvSpPr/>
          <p:nvPr/>
        </p:nvSpPr>
        <p:spPr>
          <a:xfrm>
            <a:off x="1792440" y="265284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38"/>
          <p:cNvSpPr/>
          <p:nvPr/>
        </p:nvSpPr>
        <p:spPr>
          <a:xfrm>
            <a:off x="1792440" y="2319480"/>
            <a:ext cx="74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39"/>
          <p:cNvSpPr/>
          <p:nvPr/>
        </p:nvSpPr>
        <p:spPr>
          <a:xfrm>
            <a:off x="1792440" y="199692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40"/>
          <p:cNvSpPr/>
          <p:nvPr/>
        </p:nvSpPr>
        <p:spPr>
          <a:xfrm>
            <a:off x="1792440" y="1663560"/>
            <a:ext cx="74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41"/>
          <p:cNvSpPr/>
          <p:nvPr/>
        </p:nvSpPr>
        <p:spPr>
          <a:xfrm>
            <a:off x="1828800" y="4956120"/>
            <a:ext cx="6465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42"/>
          <p:cNvSpPr/>
          <p:nvPr/>
        </p:nvSpPr>
        <p:spPr>
          <a:xfrm flipV="1">
            <a:off x="182880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43"/>
          <p:cNvSpPr/>
          <p:nvPr/>
        </p:nvSpPr>
        <p:spPr>
          <a:xfrm flipV="1">
            <a:off x="247176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Line 44"/>
          <p:cNvSpPr/>
          <p:nvPr/>
        </p:nvSpPr>
        <p:spPr>
          <a:xfrm flipV="1">
            <a:off x="3127320" y="4924080"/>
            <a:ext cx="180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Line 45"/>
          <p:cNvSpPr/>
          <p:nvPr/>
        </p:nvSpPr>
        <p:spPr>
          <a:xfrm flipV="1">
            <a:off x="3770280" y="4924080"/>
            <a:ext cx="180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46"/>
          <p:cNvSpPr/>
          <p:nvPr/>
        </p:nvSpPr>
        <p:spPr>
          <a:xfrm flipV="1">
            <a:off x="441324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47"/>
          <p:cNvSpPr/>
          <p:nvPr/>
        </p:nvSpPr>
        <p:spPr>
          <a:xfrm flipV="1">
            <a:off x="506736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48"/>
          <p:cNvSpPr/>
          <p:nvPr/>
        </p:nvSpPr>
        <p:spPr>
          <a:xfrm flipV="1">
            <a:off x="571032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49"/>
          <p:cNvSpPr/>
          <p:nvPr/>
        </p:nvSpPr>
        <p:spPr>
          <a:xfrm flipV="1">
            <a:off x="635328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50"/>
          <p:cNvSpPr/>
          <p:nvPr/>
        </p:nvSpPr>
        <p:spPr>
          <a:xfrm flipV="1">
            <a:off x="699624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Line 51"/>
          <p:cNvSpPr/>
          <p:nvPr/>
        </p:nvSpPr>
        <p:spPr>
          <a:xfrm flipV="1">
            <a:off x="765180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Line 52"/>
          <p:cNvSpPr/>
          <p:nvPr/>
        </p:nvSpPr>
        <p:spPr>
          <a:xfrm flipV="1">
            <a:off x="8294760" y="4924080"/>
            <a:ext cx="144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53"/>
          <p:cNvSpPr/>
          <p:nvPr/>
        </p:nvSpPr>
        <p:spPr>
          <a:xfrm>
            <a:off x="2897280" y="478944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54"/>
          <p:cNvSpPr/>
          <p:nvPr/>
        </p:nvSpPr>
        <p:spPr>
          <a:xfrm>
            <a:off x="3540240" y="462744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55"/>
          <p:cNvSpPr/>
          <p:nvPr/>
        </p:nvSpPr>
        <p:spPr>
          <a:xfrm>
            <a:off x="4183200" y="3960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6"/>
          <p:cNvSpPr/>
          <p:nvPr/>
        </p:nvSpPr>
        <p:spPr>
          <a:xfrm>
            <a:off x="4863960" y="3798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7"/>
          <p:cNvSpPr/>
          <p:nvPr/>
        </p:nvSpPr>
        <p:spPr>
          <a:xfrm>
            <a:off x="5506920" y="3798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58"/>
          <p:cNvSpPr/>
          <p:nvPr/>
        </p:nvSpPr>
        <p:spPr>
          <a:xfrm>
            <a:off x="6111720" y="29811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59"/>
          <p:cNvSpPr/>
          <p:nvPr/>
        </p:nvSpPr>
        <p:spPr>
          <a:xfrm>
            <a:off x="6804000" y="413244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60"/>
          <p:cNvSpPr/>
          <p:nvPr/>
        </p:nvSpPr>
        <p:spPr>
          <a:xfrm>
            <a:off x="7446960" y="3798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61"/>
          <p:cNvSpPr/>
          <p:nvPr/>
        </p:nvSpPr>
        <p:spPr>
          <a:xfrm>
            <a:off x="8102520" y="39607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62"/>
          <p:cNvSpPr/>
          <p:nvPr/>
        </p:nvSpPr>
        <p:spPr>
          <a:xfrm>
            <a:off x="2243160" y="462744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63"/>
          <p:cNvSpPr/>
          <p:nvPr/>
        </p:nvSpPr>
        <p:spPr>
          <a:xfrm>
            <a:off x="1501920" y="453708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64"/>
          <p:cNvSpPr/>
          <p:nvPr/>
        </p:nvSpPr>
        <p:spPr>
          <a:xfrm>
            <a:off x="1501920" y="421488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65"/>
          <p:cNvSpPr/>
          <p:nvPr/>
        </p:nvSpPr>
        <p:spPr>
          <a:xfrm>
            <a:off x="1501920" y="38815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66"/>
          <p:cNvSpPr/>
          <p:nvPr/>
        </p:nvSpPr>
        <p:spPr>
          <a:xfrm>
            <a:off x="1501920" y="3557520"/>
            <a:ext cx="2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67"/>
          <p:cNvSpPr/>
          <p:nvPr/>
        </p:nvSpPr>
        <p:spPr>
          <a:xfrm>
            <a:off x="1425600" y="32241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68"/>
          <p:cNvSpPr/>
          <p:nvPr/>
        </p:nvSpPr>
        <p:spPr>
          <a:xfrm>
            <a:off x="1425600" y="289080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69"/>
          <p:cNvSpPr/>
          <p:nvPr/>
        </p:nvSpPr>
        <p:spPr>
          <a:xfrm>
            <a:off x="1425600" y="256716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70"/>
          <p:cNvSpPr/>
          <p:nvPr/>
        </p:nvSpPr>
        <p:spPr>
          <a:xfrm>
            <a:off x="1425600" y="223344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71"/>
          <p:cNvSpPr/>
          <p:nvPr/>
        </p:nvSpPr>
        <p:spPr>
          <a:xfrm>
            <a:off x="1425600" y="191124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72"/>
          <p:cNvSpPr/>
          <p:nvPr/>
        </p:nvSpPr>
        <p:spPr>
          <a:xfrm>
            <a:off x="1425600" y="157788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73"/>
          <p:cNvSpPr/>
          <p:nvPr/>
        </p:nvSpPr>
        <p:spPr>
          <a:xfrm>
            <a:off x="2200320" y="5818320"/>
            <a:ext cx="5722920" cy="18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74"/>
          <p:cNvSpPr/>
          <p:nvPr/>
        </p:nvSpPr>
        <p:spPr>
          <a:xfrm>
            <a:off x="2236680" y="5884920"/>
            <a:ext cx="74880" cy="65160"/>
          </a:xfrm>
          <a:prstGeom prst="rect">
            <a:avLst/>
          </a:prstGeom>
          <a:solidFill>
            <a:srgbClr val="dd08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75"/>
          <p:cNvSpPr/>
          <p:nvPr/>
        </p:nvSpPr>
        <p:spPr>
          <a:xfrm>
            <a:off x="2357280" y="5834160"/>
            <a:ext cx="187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,096 entries:  2-bits per 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76"/>
          <p:cNvSpPr/>
          <p:nvPr/>
        </p:nvSpPr>
        <p:spPr>
          <a:xfrm>
            <a:off x="4363920" y="5884920"/>
            <a:ext cx="73080" cy="65160"/>
          </a:xfrm>
          <a:prstGeom prst="rect">
            <a:avLst/>
          </a:prstGeom>
          <a:solidFill>
            <a:srgbClr val="1fb71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77"/>
          <p:cNvSpPr/>
          <p:nvPr/>
        </p:nvSpPr>
        <p:spPr>
          <a:xfrm>
            <a:off x="4483080" y="5834160"/>
            <a:ext cx="192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Unlimited entries:  2-bits/e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78"/>
          <p:cNvSpPr/>
          <p:nvPr/>
        </p:nvSpPr>
        <p:spPr>
          <a:xfrm>
            <a:off x="6477120" y="5884920"/>
            <a:ext cx="74520" cy="65160"/>
          </a:xfrm>
          <a:prstGeom prst="rect">
            <a:avLst/>
          </a:prstGeom>
          <a:solidFill>
            <a:srgbClr val="0000d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79"/>
          <p:cNvSpPr/>
          <p:nvPr/>
        </p:nvSpPr>
        <p:spPr>
          <a:xfrm>
            <a:off x="6594120" y="5834160"/>
            <a:ext cx="115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,024 entries (2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90720" y="477720"/>
            <a:ext cx="7005600" cy="41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ccuracy of Different Schemes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8" name="Rectangle 81"/>
          <p:cNvSpPr/>
          <p:nvPr/>
        </p:nvSpPr>
        <p:spPr>
          <a:xfrm>
            <a:off x="2552400" y="1655640"/>
            <a:ext cx="3700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ＭＳ ゴシック"/>
              </a:rPr>
              <a:t>4096 Entries 2-bit B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ＭＳ ゴシック"/>
              </a:rPr>
              <a:t>Unlimited Entries 2-bit B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b80a"/>
                </a:solidFill>
                <a:latin typeface="Times New Roman"/>
                <a:ea typeface="ＭＳ ゴシック"/>
              </a:rPr>
              <a:t>1024 Entries (2,2) B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82"/>
          <p:cNvSpPr/>
          <p:nvPr/>
        </p:nvSpPr>
        <p:spPr>
          <a:xfrm rot="16200000">
            <a:off x="1763640" y="52128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nasa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83"/>
          <p:cNvSpPr/>
          <p:nvPr/>
        </p:nvSpPr>
        <p:spPr>
          <a:xfrm rot="16200000">
            <a:off x="226224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trix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84"/>
          <p:cNvSpPr/>
          <p:nvPr/>
        </p:nvSpPr>
        <p:spPr>
          <a:xfrm rot="16200000">
            <a:off x="359568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odu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5"/>
          <p:cNvSpPr/>
          <p:nvPr/>
        </p:nvSpPr>
        <p:spPr>
          <a:xfrm rot="16200000">
            <a:off x="423252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p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86"/>
          <p:cNvSpPr/>
          <p:nvPr/>
        </p:nvSpPr>
        <p:spPr>
          <a:xfrm rot="16200000">
            <a:off x="487836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fpp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87"/>
          <p:cNvSpPr/>
          <p:nvPr/>
        </p:nvSpPr>
        <p:spPr>
          <a:xfrm rot="16200000">
            <a:off x="553896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88"/>
          <p:cNvSpPr/>
          <p:nvPr/>
        </p:nvSpPr>
        <p:spPr>
          <a:xfrm rot="16200000">
            <a:off x="616104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xpr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89"/>
          <p:cNvSpPr/>
          <p:nvPr/>
        </p:nvSpPr>
        <p:spPr>
          <a:xfrm rot="16200000">
            <a:off x="682164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qnto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90"/>
          <p:cNvSpPr/>
          <p:nvPr/>
        </p:nvSpPr>
        <p:spPr>
          <a:xfrm rot="16200000">
            <a:off x="747072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91"/>
          <p:cNvSpPr/>
          <p:nvPr/>
        </p:nvSpPr>
        <p:spPr>
          <a:xfrm rot="16200000">
            <a:off x="2948040" y="53276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omca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urnament Predicto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21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level branch predi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21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bit saturating counter to choose between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predic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21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ual choice between global and local predic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41" name="Picture 4" descr="Ch3-fig16"/>
          <p:cNvPicPr/>
          <p:nvPr/>
        </p:nvPicPr>
        <p:blipFill>
          <a:blip r:embed="rId2"/>
          <a:stretch/>
        </p:blipFill>
        <p:spPr>
          <a:xfrm>
            <a:off x="2057400" y="3200400"/>
            <a:ext cx="476424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urnament Predicto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09800" y="99072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urnament predictor using, say, 4K 2-bit counters indexed by local branch address.  Chooses betwee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19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lobal predic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19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K entries index by history of last 12 branches (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12 =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K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19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ach entry is a standard 2-bit predic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1925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cal predic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19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cal history table: 1024 10-bit entries recording last 10 branches, index by branch addr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1925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 pattern of the last 10 occurrences of that particular branch used to index table of 1K entries with 3-bit saturating coun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4" descr="CAAQA4eTournament"/>
          <p:cNvPicPr/>
          <p:nvPr/>
        </p:nvPicPr>
        <p:blipFill>
          <a:blip r:embed="rId2"/>
          <a:stretch/>
        </p:blipFill>
        <p:spPr>
          <a:xfrm>
            <a:off x="3903840" y="3429000"/>
            <a:ext cx="4782960" cy="3355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paring Predicto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002960" y="106668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antage of tournament predictor is ability to select the right predictor for a particular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rticularly crucial for integer benchmark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typical tournament predictor will select the global predictor almost 40% of the time for the SPEC integer benchmarks and less than 15% of the time for the SPEC FP benchma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1015920" y="1185480"/>
            <a:ext cx="7670880" cy="44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Branch target calculation is costly and stalls the instruction fetch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BTB stores PCs the same way as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The PC of a branch is sent to the BT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When a match is found the corresponding Predicted PC is return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-23004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If the branch was predicted taken, instruction fetch continues at the returned predicted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990720" y="304920"/>
            <a:ext cx="8076960" cy="58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ranch Target Buffers (BTB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076960" cy="58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ranch Target Buffe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1859040" y="2558880"/>
            <a:ext cx="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Picture 6" descr="Ch3-fig19"/>
          <p:cNvPicPr/>
          <p:nvPr/>
        </p:nvPicPr>
        <p:blipFill>
          <a:blip r:embed="rId2"/>
          <a:stretch/>
        </p:blipFill>
        <p:spPr>
          <a:xfrm>
            <a:off x="1523880" y="1447920"/>
            <a:ext cx="583560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90360" y="330120"/>
            <a:ext cx="784836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Branch Prediction Summar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80769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diction becoming important part of exec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History Table: 2 bits for loop accura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rrelation: Recently executed branches correlated with next bran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ither different branches (G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 different executions of same branches (P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urnament predictors take insight to next level, by using multiple predicto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ually one based on global information and one based on local information, and combining them with a selec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2006, tournament predictors us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0K bits are in processors like the Power5 and Pentium 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Target Buffer: include branch address &amp; predi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0360" y="330120"/>
            <a:ext cx="78483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dvantages of Dynamic Schedul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Dynamic scheduling -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rdware rearranges the instruction execution to reduce stalls while maintaining data flow and exception behavi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handles cases when dependences unknown at compile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allows the processor to tolerate unpredictable delays such as cache misses, by executing other code while waiting for the miss to resol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allows code that compiled for one pipeline to run efficiently on a different pipelin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simplifies the compi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Hardware specul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 technique with significant performance advantages, builds on dynamic schedu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28520" y="15192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W Schemes: Instruction Parallelis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48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y idea: Allow instructions behind stall to proce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IV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dc765"/>
                </a:solidFill>
                <a:latin typeface="Courier New"/>
              </a:rPr>
              <a:t>F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F2,F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10,</a:t>
            </a:r>
            <a:r>
              <a:rPr b="0" lang="en-US" sz="2000" spc="-1" strike="noStrike">
                <a:solidFill>
                  <a:srgbClr val="8dc765"/>
                </a:solidFill>
                <a:latin typeface="Courier New"/>
              </a:rPr>
              <a:t>F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F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Courier New"/>
              </a:rPr>
              <a:t>SUBD</a:t>
            </a:r>
            <a:r>
              <a:rPr b="0" lang="en-US" sz="2000" spc="-1" strike="noStrike">
                <a:solidFill>
                  <a:srgbClr val="feb80a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eb80a"/>
                </a:solidFill>
                <a:latin typeface="Courier New"/>
              </a:rPr>
              <a:t>F12,F8,F14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able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out-of-order exec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allows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out-of-order completion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a dynamically scheduled pipeline, all instructions still pass through issue stage in order (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n-order iss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ll distinguish when an instruction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begins exec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when it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completes execu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 between 2 times, the instruction is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in exec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Dynamic execution creates WAR and WAW hazards and makes exceptions har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struction Level Parallelis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nstruction-Level Parallelis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IL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: overlap the execution of instructions to improve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 approaches to exploit ILP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y on hardware to help discover and exploit the parallelism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e.g., Pentium 4, AMD Opteron, IBM Power)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y on software technology to find parallelism,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statical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t compile-time (e.g., Itanium 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ynamic Scheduling Step 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pipeline had 1 stage to check both structural and data hazards: Instruction Decode (ID), also called Instruction Iss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lit the ID pipe stage of simple 5-stage pipeline into 2 stag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1301"/>
              </a:spcBef>
              <a:spcAft>
                <a:spcPts val="6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Issu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ode instructions, check for structural hazard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spcAft>
                <a:spcPts val="1301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Read</a:t>
            </a:r>
            <a:r>
              <a:rPr b="0" i="1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332b7"/>
                </a:solidFill>
                <a:latin typeface="Gill Sans MT"/>
              </a:rPr>
              <a:t>operands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ait until no data hazards, then read oper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 Dynamic Algorithm: Tomasulo’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041480" y="1371600"/>
            <a:ext cx="7950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IBM 360/91 (before caches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memory lat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al: High Performance without special compil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number of floating point registers (4 in 360) prevented interesting compiler scheduling of op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led Tomasulo to try to figure out how to get more effective registers —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enaming in hardware!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y Study 1966 Compute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descendants of this have flourished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pha 21264, Pentium 4, AMD Opteron, Power 5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Algorith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041480" y="1142640"/>
            <a:ext cx="79502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&amp; buffers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distribut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th Function Units (FU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 buffers called “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reservation statio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; have pending oper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in instructions replaced by values or pointers to reservation stations(RS); called 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register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renaming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naming avoids WAR, WAW haz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reservation stations than registers, so can do optimizations compilers can’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ults to FU from RS,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not through regis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over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Common Data Bus</a:t>
            </a:r>
            <a:r>
              <a:rPr b="0" lang="en-US" sz="2400" spc="-1" strike="noStrike" u="sng">
                <a:solidFill>
                  <a:srgbClr val="8dc765"/>
                </a:solidFill>
                <a:uFillTx/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at broadcasts results to all F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oids RAW hazards by executing an instruction only when its operands are avai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and Stores treated as FUs with RSs as w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ger instructions can go past branches (predict taken), allowing FP ops beyond basic block in FP que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Organiz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970" name="Group 3"/>
          <p:cNvGrpSpPr/>
          <p:nvPr/>
        </p:nvGrpSpPr>
        <p:grpSpPr>
          <a:xfrm>
            <a:off x="725400" y="2225520"/>
            <a:ext cx="914400" cy="1218960"/>
            <a:chOff x="725400" y="2225520"/>
            <a:chExt cx="914400" cy="1218960"/>
          </a:xfrm>
        </p:grpSpPr>
        <p:sp>
          <p:nvSpPr>
            <p:cNvPr id="971" name="Rectangle 4"/>
            <p:cNvSpPr/>
            <p:nvPr/>
          </p:nvSpPr>
          <p:spPr>
            <a:xfrm>
              <a:off x="725400" y="222552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5"/>
            <p:cNvSpPr/>
            <p:nvPr/>
          </p:nvSpPr>
          <p:spPr>
            <a:xfrm>
              <a:off x="725400" y="242856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Rectangle 6"/>
            <p:cNvSpPr/>
            <p:nvPr/>
          </p:nvSpPr>
          <p:spPr>
            <a:xfrm>
              <a:off x="725400" y="263196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7"/>
            <p:cNvSpPr/>
            <p:nvPr/>
          </p:nvSpPr>
          <p:spPr>
            <a:xfrm>
              <a:off x="725400" y="283500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8"/>
            <p:cNvSpPr/>
            <p:nvPr/>
          </p:nvSpPr>
          <p:spPr>
            <a:xfrm>
              <a:off x="725400" y="303840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9"/>
            <p:cNvSpPr/>
            <p:nvPr/>
          </p:nvSpPr>
          <p:spPr>
            <a:xfrm>
              <a:off x="725400" y="324144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Line 10"/>
          <p:cNvSpPr/>
          <p:nvPr/>
        </p:nvSpPr>
        <p:spPr>
          <a:xfrm>
            <a:off x="1106640" y="161604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11"/>
          <p:cNvGrpSpPr/>
          <p:nvPr/>
        </p:nvGrpSpPr>
        <p:grpSpPr>
          <a:xfrm>
            <a:off x="3340080" y="1246320"/>
            <a:ext cx="914400" cy="1218600"/>
            <a:chOff x="3340080" y="1246320"/>
            <a:chExt cx="914400" cy="1218600"/>
          </a:xfrm>
        </p:grpSpPr>
        <p:sp>
          <p:nvSpPr>
            <p:cNvPr id="979" name="Rectangle 12"/>
            <p:cNvSpPr/>
            <p:nvPr/>
          </p:nvSpPr>
          <p:spPr>
            <a:xfrm>
              <a:off x="3340080" y="124632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3"/>
            <p:cNvSpPr/>
            <p:nvPr/>
          </p:nvSpPr>
          <p:spPr>
            <a:xfrm>
              <a:off x="3340080" y="144936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4"/>
            <p:cNvSpPr/>
            <p:nvPr/>
          </p:nvSpPr>
          <p:spPr>
            <a:xfrm>
              <a:off x="3340080" y="165240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5"/>
            <p:cNvSpPr/>
            <p:nvPr/>
          </p:nvSpPr>
          <p:spPr>
            <a:xfrm>
              <a:off x="3340080" y="185580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6"/>
            <p:cNvSpPr/>
            <p:nvPr/>
          </p:nvSpPr>
          <p:spPr>
            <a:xfrm>
              <a:off x="3340080" y="205884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7"/>
            <p:cNvSpPr/>
            <p:nvPr/>
          </p:nvSpPr>
          <p:spPr>
            <a:xfrm>
              <a:off x="3340080" y="22618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Group 18"/>
          <p:cNvGrpSpPr/>
          <p:nvPr/>
        </p:nvGrpSpPr>
        <p:grpSpPr>
          <a:xfrm>
            <a:off x="5168880" y="1474920"/>
            <a:ext cx="2209680" cy="812520"/>
            <a:chOff x="5168880" y="1474920"/>
            <a:chExt cx="2209680" cy="812520"/>
          </a:xfrm>
        </p:grpSpPr>
        <p:sp>
          <p:nvSpPr>
            <p:cNvPr id="986" name="Rectangle 19"/>
            <p:cNvSpPr/>
            <p:nvPr/>
          </p:nvSpPr>
          <p:spPr>
            <a:xfrm>
              <a:off x="5168880" y="14749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20"/>
            <p:cNvSpPr/>
            <p:nvPr/>
          </p:nvSpPr>
          <p:spPr>
            <a:xfrm>
              <a:off x="5168880" y="16779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21"/>
            <p:cNvSpPr/>
            <p:nvPr/>
          </p:nvSpPr>
          <p:spPr>
            <a:xfrm>
              <a:off x="5168880" y="18813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22"/>
            <p:cNvSpPr/>
            <p:nvPr/>
          </p:nvSpPr>
          <p:spPr>
            <a:xfrm>
              <a:off x="5168880" y="20844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Group 23"/>
          <p:cNvGrpSpPr/>
          <p:nvPr/>
        </p:nvGrpSpPr>
        <p:grpSpPr>
          <a:xfrm>
            <a:off x="7583400" y="3368520"/>
            <a:ext cx="914400" cy="609480"/>
            <a:chOff x="7583400" y="3368520"/>
            <a:chExt cx="914400" cy="609480"/>
          </a:xfrm>
        </p:grpSpPr>
        <p:sp>
          <p:nvSpPr>
            <p:cNvPr id="991" name="Rectangle 24"/>
            <p:cNvSpPr/>
            <p:nvPr/>
          </p:nvSpPr>
          <p:spPr>
            <a:xfrm>
              <a:off x="7583400" y="336852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25"/>
            <p:cNvSpPr/>
            <p:nvPr/>
          </p:nvSpPr>
          <p:spPr>
            <a:xfrm>
              <a:off x="7583400" y="3571560"/>
              <a:ext cx="9144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26"/>
            <p:cNvSpPr/>
            <p:nvPr/>
          </p:nvSpPr>
          <p:spPr>
            <a:xfrm>
              <a:off x="7583400" y="377496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1677960" y="3913200"/>
            <a:ext cx="2209680" cy="609480"/>
            <a:chOff x="1677960" y="3913200"/>
            <a:chExt cx="2209680" cy="609480"/>
          </a:xfrm>
        </p:grpSpPr>
        <p:sp>
          <p:nvSpPr>
            <p:cNvPr id="995" name="Rectangle 28"/>
            <p:cNvSpPr/>
            <p:nvPr/>
          </p:nvSpPr>
          <p:spPr>
            <a:xfrm>
              <a:off x="1677960" y="3913200"/>
              <a:ext cx="2209680" cy="20304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29"/>
            <p:cNvSpPr/>
            <p:nvPr/>
          </p:nvSpPr>
          <p:spPr>
            <a:xfrm>
              <a:off x="1677960" y="4116240"/>
              <a:ext cx="2209680" cy="20340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30"/>
            <p:cNvSpPr/>
            <p:nvPr/>
          </p:nvSpPr>
          <p:spPr>
            <a:xfrm>
              <a:off x="1677960" y="4319640"/>
              <a:ext cx="2209680" cy="20304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Rectangle 31"/>
          <p:cNvSpPr/>
          <p:nvPr/>
        </p:nvSpPr>
        <p:spPr>
          <a:xfrm>
            <a:off x="1982880" y="3913200"/>
            <a:ext cx="76176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Rectangle 32"/>
          <p:cNvSpPr/>
          <p:nvPr/>
        </p:nvSpPr>
        <p:spPr>
          <a:xfrm>
            <a:off x="2249640" y="5056200"/>
            <a:ext cx="1066680" cy="30492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e7dec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33"/>
          <p:cNvSpPr/>
          <p:nvPr/>
        </p:nvSpPr>
        <p:spPr>
          <a:xfrm>
            <a:off x="1112760" y="3840480"/>
            <a:ext cx="5968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Group 34"/>
          <p:cNvGrpSpPr/>
          <p:nvPr/>
        </p:nvGrpSpPr>
        <p:grpSpPr>
          <a:xfrm>
            <a:off x="4863960" y="4065480"/>
            <a:ext cx="2209680" cy="381240"/>
            <a:chOff x="4863960" y="4065480"/>
            <a:chExt cx="2209680" cy="381240"/>
          </a:xfrm>
        </p:grpSpPr>
        <p:sp>
          <p:nvSpPr>
            <p:cNvPr id="1002" name="Rectangle 35"/>
            <p:cNvSpPr/>
            <p:nvPr/>
          </p:nvSpPr>
          <p:spPr>
            <a:xfrm>
              <a:off x="4863960" y="4065480"/>
              <a:ext cx="2209680" cy="19080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36"/>
            <p:cNvSpPr/>
            <p:nvPr/>
          </p:nvSpPr>
          <p:spPr>
            <a:xfrm>
              <a:off x="4863960" y="4256280"/>
              <a:ext cx="2209680" cy="190440"/>
            </a:xfrm>
            <a:prstGeom prst="rect">
              <a:avLst/>
            </a:prstGeom>
            <a:solidFill>
              <a:srgbClr val="3891a7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dec9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4" name="Rectangle 37"/>
          <p:cNvSpPr/>
          <p:nvPr/>
        </p:nvSpPr>
        <p:spPr>
          <a:xfrm>
            <a:off x="5168880" y="4065480"/>
            <a:ext cx="7621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5321160" y="5056200"/>
            <a:ext cx="1447920" cy="304920"/>
          </a:xfrm>
          <a:prstGeom prst="rect">
            <a:avLst/>
          </a:prstGeom>
          <a:solidFill>
            <a:srgbClr val="3891a7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e7dec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9"/>
          <p:cNvSpPr/>
          <p:nvPr/>
        </p:nvSpPr>
        <p:spPr>
          <a:xfrm>
            <a:off x="4259520" y="4053960"/>
            <a:ext cx="6166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l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40"/>
          <p:cNvSpPr/>
          <p:nvPr/>
        </p:nvSpPr>
        <p:spPr>
          <a:xfrm>
            <a:off x="2425680" y="452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41"/>
          <p:cNvSpPr/>
          <p:nvPr/>
        </p:nvSpPr>
        <p:spPr>
          <a:xfrm>
            <a:off x="3111480" y="452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42"/>
          <p:cNvSpPr/>
          <p:nvPr/>
        </p:nvSpPr>
        <p:spPr>
          <a:xfrm>
            <a:off x="5549760" y="44467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43"/>
          <p:cNvSpPr/>
          <p:nvPr/>
        </p:nvSpPr>
        <p:spPr>
          <a:xfrm>
            <a:off x="6464160" y="44467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Freeform 44"/>
          <p:cNvSpPr/>
          <p:nvPr/>
        </p:nvSpPr>
        <p:spPr>
          <a:xfrm>
            <a:off x="1816200" y="2465280"/>
            <a:ext cx="1981080" cy="14479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Freeform 45"/>
          <p:cNvSpPr/>
          <p:nvPr/>
        </p:nvSpPr>
        <p:spPr>
          <a:xfrm>
            <a:off x="3797280" y="3532320"/>
            <a:ext cx="1219320" cy="533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2349360" y="2313000"/>
            <a:ext cx="3124440" cy="1600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47"/>
          <p:cNvSpPr/>
          <p:nvPr/>
        </p:nvSpPr>
        <p:spPr>
          <a:xfrm>
            <a:off x="5473800" y="3151080"/>
            <a:ext cx="144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48"/>
          <p:cNvSpPr/>
          <p:nvPr/>
        </p:nvSpPr>
        <p:spPr>
          <a:xfrm>
            <a:off x="6311880" y="231300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Freeform 49"/>
          <p:cNvSpPr/>
          <p:nvPr/>
        </p:nvSpPr>
        <p:spPr>
          <a:xfrm>
            <a:off x="3263760" y="3303720"/>
            <a:ext cx="3048120" cy="6094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Freeform 50"/>
          <p:cNvSpPr/>
          <p:nvPr/>
        </p:nvSpPr>
        <p:spPr>
          <a:xfrm>
            <a:off x="6288120" y="2835360"/>
            <a:ext cx="1752480" cy="533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51"/>
          <p:cNvSpPr/>
          <p:nvPr/>
        </p:nvSpPr>
        <p:spPr>
          <a:xfrm>
            <a:off x="719280" y="6035760"/>
            <a:ext cx="83106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2"/>
          <p:cNvSpPr/>
          <p:nvPr/>
        </p:nvSpPr>
        <p:spPr>
          <a:xfrm flipH="1">
            <a:off x="8497440" y="3673440"/>
            <a:ext cx="381240" cy="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Freeform 53"/>
          <p:cNvSpPr/>
          <p:nvPr/>
        </p:nvSpPr>
        <p:spPr>
          <a:xfrm>
            <a:off x="7354800" y="1844640"/>
            <a:ext cx="1524240" cy="4191120"/>
          </a:xfrm>
          <a:prstGeom prst="pie">
            <a:avLst/>
          </a:prstGeom>
          <a:noFill/>
          <a:ln w="57240">
            <a:solidFill>
              <a:srgbClr val="8dc76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54"/>
          <p:cNvSpPr/>
          <p:nvPr/>
        </p:nvSpPr>
        <p:spPr>
          <a:xfrm>
            <a:off x="1106640" y="3444840"/>
            <a:ext cx="0" cy="259092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55"/>
          <p:cNvSpPr/>
          <p:nvPr/>
        </p:nvSpPr>
        <p:spPr>
          <a:xfrm>
            <a:off x="6059520" y="5349960"/>
            <a:ext cx="0" cy="68580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56"/>
          <p:cNvSpPr/>
          <p:nvPr/>
        </p:nvSpPr>
        <p:spPr>
          <a:xfrm>
            <a:off x="2782800" y="5349960"/>
            <a:ext cx="0" cy="68580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57"/>
          <p:cNvSpPr/>
          <p:nvPr/>
        </p:nvSpPr>
        <p:spPr>
          <a:xfrm>
            <a:off x="8040600" y="397836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373320" y="123444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9"/>
          <p:cNvSpPr/>
          <p:nvPr/>
        </p:nvSpPr>
        <p:spPr>
          <a:xfrm>
            <a:off x="5463720" y="115812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60"/>
          <p:cNvSpPr/>
          <p:nvPr/>
        </p:nvSpPr>
        <p:spPr>
          <a:xfrm>
            <a:off x="3771720" y="454896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Line 61"/>
          <p:cNvSpPr/>
          <p:nvPr/>
        </p:nvSpPr>
        <p:spPr>
          <a:xfrm flipV="1">
            <a:off x="3544920" y="4511160"/>
            <a:ext cx="0" cy="1219320"/>
          </a:xfrm>
          <a:prstGeom prst="line">
            <a:avLst/>
          </a:prstGeom>
          <a:ln w="38160">
            <a:solidFill>
              <a:srgbClr val="feb80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Line 62"/>
          <p:cNvSpPr/>
          <p:nvPr/>
        </p:nvSpPr>
        <p:spPr>
          <a:xfrm flipV="1">
            <a:off x="3544920" y="4511520"/>
            <a:ext cx="0" cy="152424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Line 63"/>
          <p:cNvSpPr/>
          <p:nvPr/>
        </p:nvSpPr>
        <p:spPr>
          <a:xfrm flipV="1">
            <a:off x="6897600" y="4435200"/>
            <a:ext cx="0" cy="1600200"/>
          </a:xfrm>
          <a:prstGeom prst="line">
            <a:avLst/>
          </a:prstGeom>
          <a:ln w="57240">
            <a:solidFill>
              <a:srgbClr val="8dc76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64"/>
          <p:cNvSpPr/>
          <p:nvPr/>
        </p:nvSpPr>
        <p:spPr>
          <a:xfrm>
            <a:off x="2979720" y="618732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Data Bus (C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65"/>
          <p:cNvSpPr/>
          <p:nvPr/>
        </p:nvSpPr>
        <p:spPr>
          <a:xfrm>
            <a:off x="7496280" y="45871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66"/>
          <p:cNvSpPr/>
          <p:nvPr/>
        </p:nvSpPr>
        <p:spPr>
          <a:xfrm>
            <a:off x="2409120" y="1234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67"/>
          <p:cNvSpPr/>
          <p:nvPr/>
        </p:nvSpPr>
        <p:spPr>
          <a:xfrm>
            <a:off x="1415160" y="17676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68"/>
          <p:cNvSpPr/>
          <p:nvPr/>
        </p:nvSpPr>
        <p:spPr>
          <a:xfrm>
            <a:off x="6654960" y="298692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9"/>
          <p:cNvSpPr/>
          <p:nvPr/>
        </p:nvSpPr>
        <p:spPr>
          <a:xfrm>
            <a:off x="91440" y="2210400"/>
            <a:ext cx="676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servation Station Compone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Op: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tion to perform in the unit (e.g., + or –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Vj, Vk: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Source oper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re buffers has V field, result to be sto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Qj, Qk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rvation stations producing source registers (value to be writte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e: Qj,Qk=0 =&gt; read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ore buffers only have Qi for RS producing resul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3891a7"/>
                </a:solidFill>
                <a:latin typeface="Gill Sans MT"/>
              </a:rPr>
              <a:t>Bus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cates reservation station or FU is bus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egister result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statu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—Indicates which functional unit will write each register, if one exists. Blank when no pending instructions that will write that registe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028520" y="1519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ree Stages of Tomasulo Algorith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034640" y="1143000"/>
            <a:ext cx="803268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8dc76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Issu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—get instruction from FP Op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f reservation station free (no structural hazard)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issues instr &amp; sends operands (renames register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8dc76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Execut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—operate on operands (EX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both operands ready then execut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f not ready, watch Common Data Bus for resul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3.</a:t>
            </a:r>
            <a:r>
              <a:rPr b="0" lang="en-US" sz="2200" spc="-1" strike="noStrike">
                <a:solidFill>
                  <a:srgbClr val="8dc765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Write</a:t>
            </a:r>
            <a:r>
              <a:rPr b="0" lang="en-US" sz="2200" spc="-1" strike="noStrike">
                <a:solidFill>
                  <a:srgbClr val="8dc765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332b7"/>
                </a:solidFill>
                <a:latin typeface="Arial"/>
              </a:rPr>
              <a:t>resul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—finish execution (WB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rite on Common Data Bus to all awaiting unit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rk reservation station availabl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rmal data bus: data + destination (“go to” bu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332b7"/>
                </a:solidFill>
                <a:uFillTx/>
                <a:latin typeface="Gill Sans MT"/>
              </a:rPr>
              <a:t>Common data bus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data + </a:t>
            </a:r>
            <a:r>
              <a:rPr b="0" lang="en-US" sz="2200" spc="-1" strike="noStrike" u="sng">
                <a:solidFill>
                  <a:srgbClr val="0332b7"/>
                </a:solidFill>
                <a:uFillTx/>
                <a:latin typeface="Gill Sans MT"/>
              </a:rPr>
              <a:t>sourc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 (“</a:t>
            </a:r>
            <a:r>
              <a:rPr b="0" lang="en-US" sz="2200" spc="-1" strike="noStrike" u="sng">
                <a:solidFill>
                  <a:srgbClr val="0332b7"/>
                </a:solidFill>
                <a:uFillTx/>
                <a:latin typeface="Gill Sans MT"/>
              </a:rPr>
              <a:t>come from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” bu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4 bits of data + 4 bits of Functional Unit  </a:t>
            </a:r>
            <a:r>
              <a:rPr b="0" lang="en-US" sz="2200" spc="-1" strike="noStrike" u="sng">
                <a:solidFill>
                  <a:srgbClr val="0332b7"/>
                </a:solidFill>
                <a:uFillTx/>
                <a:latin typeface="Gill Sans MT"/>
              </a:rPr>
              <a:t>sourc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addr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rite if matches expected Functional Unit (produces result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oes the broadca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ample speed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 clocks for Fl .pt. +,-; 10 for * ; 40 clks for /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42" name=""/>
          <p:cNvGraphicFramePr/>
          <p:nvPr/>
        </p:nvGraphicFramePr>
        <p:xfrm>
          <a:off x="457200" y="1143000"/>
          <a:ext cx="8529480" cy="480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143000"/>
                    <a:ext cx="852948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4" name="Group 4"/>
          <p:cNvGrpSpPr/>
          <p:nvPr/>
        </p:nvGrpSpPr>
        <p:grpSpPr>
          <a:xfrm>
            <a:off x="422280" y="5409720"/>
            <a:ext cx="1400040" cy="947880"/>
            <a:chOff x="422280" y="5409720"/>
            <a:chExt cx="1400040" cy="947880"/>
          </a:xfrm>
        </p:grpSpPr>
        <p:sp>
          <p:nvSpPr>
            <p:cNvPr id="1045" name="Text Box 5"/>
            <p:cNvSpPr/>
            <p:nvPr/>
          </p:nvSpPr>
          <p:spPr>
            <a:xfrm>
              <a:off x="422280" y="5715000"/>
              <a:ext cx="140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Clock cycle </a:t>
              </a:r>
              <a:br>
                <a:rPr sz="1800"/>
              </a:b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coun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6"/>
            <p:cNvSpPr/>
            <p:nvPr/>
          </p:nvSpPr>
          <p:spPr>
            <a:xfrm flipV="1">
              <a:off x="685800" y="5409720"/>
              <a:ext cx="228600" cy="304920"/>
            </a:xfrm>
            <a:prstGeom prst="line">
              <a:avLst/>
            </a:prstGeom>
            <a:ln w="3816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Group 7"/>
          <p:cNvGrpSpPr/>
          <p:nvPr/>
        </p:nvGrpSpPr>
        <p:grpSpPr>
          <a:xfrm>
            <a:off x="549360" y="3625920"/>
            <a:ext cx="1203120" cy="870840"/>
            <a:chOff x="549360" y="3625920"/>
            <a:chExt cx="1203120" cy="870840"/>
          </a:xfrm>
        </p:grpSpPr>
        <p:sp>
          <p:nvSpPr>
            <p:cNvPr id="1048" name="Text Box 8"/>
            <p:cNvSpPr/>
            <p:nvPr/>
          </p:nvSpPr>
          <p:spPr>
            <a:xfrm>
              <a:off x="549360" y="385416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FU cou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dow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9"/>
            <p:cNvSpPr/>
            <p:nvPr/>
          </p:nvSpPr>
          <p:spPr>
            <a:xfrm flipV="1">
              <a:off x="1523880" y="3625920"/>
              <a:ext cx="228600" cy="304560"/>
            </a:xfrm>
            <a:prstGeom prst="line">
              <a:avLst/>
            </a:prstGeom>
            <a:ln w="3816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0" name="Group 10"/>
          <p:cNvGrpSpPr/>
          <p:nvPr/>
        </p:nvGrpSpPr>
        <p:grpSpPr>
          <a:xfrm>
            <a:off x="217080" y="914400"/>
            <a:ext cx="2177280" cy="1066680"/>
            <a:chOff x="217080" y="914400"/>
            <a:chExt cx="2177280" cy="1066680"/>
          </a:xfrm>
        </p:grpSpPr>
        <p:sp>
          <p:nvSpPr>
            <p:cNvPr id="1051" name="Text Box 11"/>
            <p:cNvSpPr/>
            <p:nvPr/>
          </p:nvSpPr>
          <p:spPr>
            <a:xfrm>
              <a:off x="217080" y="914400"/>
              <a:ext cx="217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Instruction stre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325080" y="1295280"/>
              <a:ext cx="380880" cy="685800"/>
            </a:xfrm>
            <a:prstGeom prst="line">
              <a:avLst/>
            </a:prstGeom>
            <a:ln w="3816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Group 13"/>
          <p:cNvGrpSpPr/>
          <p:nvPr/>
        </p:nvGrpSpPr>
        <p:grpSpPr>
          <a:xfrm>
            <a:off x="6540120" y="2133720"/>
            <a:ext cx="1765800" cy="672840"/>
            <a:chOff x="6540120" y="2133720"/>
            <a:chExt cx="1765800" cy="672840"/>
          </a:xfrm>
        </p:grpSpPr>
        <p:sp>
          <p:nvSpPr>
            <p:cNvPr id="1054" name="Line 14"/>
            <p:cNvSpPr/>
            <p:nvPr/>
          </p:nvSpPr>
          <p:spPr>
            <a:xfrm flipH="1" flipV="1">
              <a:off x="7009920" y="2133720"/>
              <a:ext cx="304920" cy="304560"/>
            </a:xfrm>
            <a:prstGeom prst="line">
              <a:avLst/>
            </a:prstGeom>
            <a:ln w="3816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15"/>
            <p:cNvSpPr/>
            <p:nvPr/>
          </p:nvSpPr>
          <p:spPr>
            <a:xfrm>
              <a:off x="6540120" y="2438280"/>
              <a:ext cx="17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3 Load/Buff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Group 16"/>
          <p:cNvGrpSpPr/>
          <p:nvPr/>
        </p:nvGrpSpPr>
        <p:grpSpPr>
          <a:xfrm>
            <a:off x="6324120" y="3733920"/>
            <a:ext cx="2302920" cy="642600"/>
            <a:chOff x="6324120" y="3733920"/>
            <a:chExt cx="2302920" cy="642600"/>
          </a:xfrm>
        </p:grpSpPr>
        <p:sp>
          <p:nvSpPr>
            <p:cNvPr id="1057" name="Text Box 17"/>
            <p:cNvSpPr/>
            <p:nvPr/>
          </p:nvSpPr>
          <p:spPr>
            <a:xfrm>
              <a:off x="6840000" y="3733920"/>
              <a:ext cx="178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3 FP Adder R.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fefea"/>
                  </a:solidFill>
                  <a:latin typeface="Comic Sans MS"/>
                  <a:ea typeface="ＭＳ ゴシック"/>
                </a:rPr>
                <a:t>2 FP Mult R.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Line 18"/>
            <p:cNvSpPr/>
            <p:nvPr/>
          </p:nvSpPr>
          <p:spPr>
            <a:xfrm flipH="1">
              <a:off x="6324120" y="4038480"/>
              <a:ext cx="381240" cy="0"/>
            </a:xfrm>
            <a:prstGeom prst="line">
              <a:avLst/>
            </a:prstGeom>
            <a:ln w="28440">
              <a:solidFill>
                <a:srgbClr val="0fef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60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2" name="AutoShape 4"/>
          <p:cNvSpPr/>
          <p:nvPr/>
        </p:nvSpPr>
        <p:spPr>
          <a:xfrm>
            <a:off x="3124080" y="1371600"/>
            <a:ext cx="53352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5"/>
          <p:cNvSpPr/>
          <p:nvPr/>
        </p:nvSpPr>
        <p:spPr>
          <a:xfrm>
            <a:off x="6248520" y="1371600"/>
            <a:ext cx="167616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6"/>
          <p:cNvSpPr/>
          <p:nvPr/>
        </p:nvSpPr>
        <p:spPr>
          <a:xfrm>
            <a:off x="4876920" y="5181480"/>
            <a:ext cx="76176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2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8" name="AutoShape 4"/>
          <p:cNvSpPr/>
          <p:nvPr/>
        </p:nvSpPr>
        <p:spPr>
          <a:xfrm>
            <a:off x="3124080" y="16765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5"/>
          <p:cNvSpPr/>
          <p:nvPr/>
        </p:nvSpPr>
        <p:spPr>
          <a:xfrm>
            <a:off x="6248520" y="1752480"/>
            <a:ext cx="167616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6"/>
          <p:cNvSpPr/>
          <p:nvPr/>
        </p:nvSpPr>
        <p:spPr>
          <a:xfrm>
            <a:off x="3633840" y="5132520"/>
            <a:ext cx="76212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Rectangle 7"/>
          <p:cNvSpPr/>
          <p:nvPr/>
        </p:nvSpPr>
        <p:spPr>
          <a:xfrm>
            <a:off x="1063800" y="5791320"/>
            <a:ext cx="4963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Note: Can have multiple loads out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3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5" name="AutoShape 4"/>
          <p:cNvSpPr/>
          <p:nvPr/>
        </p:nvSpPr>
        <p:spPr>
          <a:xfrm>
            <a:off x="2438280" y="4038480"/>
            <a:ext cx="396252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5"/>
          <p:cNvSpPr/>
          <p:nvPr/>
        </p:nvSpPr>
        <p:spPr>
          <a:xfrm>
            <a:off x="2965320" y="5132520"/>
            <a:ext cx="762120" cy="457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6"/>
          <p:cNvSpPr/>
          <p:nvPr/>
        </p:nvSpPr>
        <p:spPr>
          <a:xfrm>
            <a:off x="1028880" y="5562720"/>
            <a:ext cx="78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32b7"/>
                </a:solidFill>
                <a:latin typeface="Arial"/>
                <a:ea typeface="Arial"/>
              </a:rPr>
              <a:t>Note: registers names are removed (“renamed”) in Reservation Stations; MULT iss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32b7"/>
                </a:solidFill>
                <a:latin typeface="Arial"/>
                <a:ea typeface="Arial"/>
              </a:rPr>
              <a:t>Load1 completing; what is waiting for Load1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7"/>
          <p:cNvSpPr/>
          <p:nvPr/>
        </p:nvSpPr>
        <p:spPr>
          <a:xfrm>
            <a:off x="3809880" y="14479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struction-Level Parallelism (ILP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ic Block (BB) ILP is quite sma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B: a straight-line code sequence with no branches in except to the entry and no branches out except at the ex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dynamic branch frequency 15% to 25%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=&gt; 4 to 7 instructions execute between a pair of bran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s instructions in BB likely to depend on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obtain substantial performance enhancements, we must exploit ILP across multiple basic blo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st: </a:t>
            </a: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loop-level parallelis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xploit parallelism among iterations of a loop.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 (i=1; i&lt;=1000; i=i+1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     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x[i] = x[i] + y[i]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4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Rectangle 4"/>
          <p:cNvSpPr/>
          <p:nvPr/>
        </p:nvSpPr>
        <p:spPr>
          <a:xfrm>
            <a:off x="1104840" y="5715000"/>
            <a:ext cx="75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Load2 completing; what is waiting for Load2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5"/>
          <p:cNvSpPr/>
          <p:nvPr/>
        </p:nvSpPr>
        <p:spPr>
          <a:xfrm>
            <a:off x="3809880" y="16765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6"/>
          <p:cNvSpPr/>
          <p:nvPr/>
        </p:nvSpPr>
        <p:spPr>
          <a:xfrm>
            <a:off x="4419720" y="1447920"/>
            <a:ext cx="53316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7"/>
          <p:cNvSpPr/>
          <p:nvPr/>
        </p:nvSpPr>
        <p:spPr>
          <a:xfrm>
            <a:off x="3124080" y="21337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AutoShape 8"/>
          <p:cNvSpPr/>
          <p:nvPr/>
        </p:nvSpPr>
        <p:spPr>
          <a:xfrm>
            <a:off x="2438280" y="3429000"/>
            <a:ext cx="396252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5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0" name="Rectangle 4"/>
          <p:cNvSpPr/>
          <p:nvPr/>
        </p:nvSpPr>
        <p:spPr>
          <a:xfrm>
            <a:off x="1028880" y="57913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Timer starts down for Add1, Mul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5"/>
          <p:cNvSpPr/>
          <p:nvPr/>
        </p:nvSpPr>
        <p:spPr>
          <a:xfrm>
            <a:off x="1371600" y="3200400"/>
            <a:ext cx="533520" cy="121932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219320"/>
              <a:gd name="textAreaBottom" fmla="*/ 1193400 h 1219320"/>
            </a:gdLst>
            <a:ahLst/>
            <a:rect l="textAreaLeft" t="textAreaTop" r="textAreaRight" b="textAreaBottom"/>
            <a:pathLst>
              <a:path w="21600" h="49346">
                <a:moveTo>
                  <a:pt x="3600" y="0"/>
                </a:moveTo>
                <a:arcTo wR="3600" hR="3600" stAng="16200000" swAng="-5400000"/>
                <a:lnTo>
                  <a:pt x="0" y="45746"/>
                </a:lnTo>
                <a:arcTo wR="3600" hR="3600" stAng="10800000" swAng="-5400000"/>
                <a:lnTo>
                  <a:pt x="18000" y="49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AutoShape 6"/>
          <p:cNvSpPr/>
          <p:nvPr/>
        </p:nvSpPr>
        <p:spPr>
          <a:xfrm>
            <a:off x="4343400" y="34290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AutoShape 7"/>
          <p:cNvSpPr/>
          <p:nvPr/>
        </p:nvSpPr>
        <p:spPr>
          <a:xfrm>
            <a:off x="3733920" y="41148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6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7" name="Rectangle 4"/>
          <p:cNvSpPr/>
          <p:nvPr/>
        </p:nvSpPr>
        <p:spPr>
          <a:xfrm>
            <a:off x="1028880" y="5791320"/>
            <a:ext cx="78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Issue ADDD here despite name dependency on F6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5"/>
          <p:cNvSpPr/>
          <p:nvPr/>
        </p:nvSpPr>
        <p:spPr>
          <a:xfrm>
            <a:off x="2971800" y="25909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6"/>
          <p:cNvSpPr/>
          <p:nvPr/>
        </p:nvSpPr>
        <p:spPr>
          <a:xfrm>
            <a:off x="2438280" y="3657600"/>
            <a:ext cx="396252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7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3" name="Rectangle 4"/>
          <p:cNvSpPr/>
          <p:nvPr/>
        </p:nvSpPr>
        <p:spPr>
          <a:xfrm>
            <a:off x="1028880" y="5791320"/>
            <a:ext cx="79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Add1 (SUBD) completing; what is waiting for i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5"/>
          <p:cNvSpPr/>
          <p:nvPr/>
        </p:nvSpPr>
        <p:spPr>
          <a:xfrm>
            <a:off x="3809880" y="2133720"/>
            <a:ext cx="533520" cy="304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8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0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8" name="AutoShape 4"/>
          <p:cNvSpPr/>
          <p:nvPr/>
        </p:nvSpPr>
        <p:spPr>
          <a:xfrm>
            <a:off x="3733920" y="36576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5"/>
          <p:cNvSpPr/>
          <p:nvPr/>
        </p:nvSpPr>
        <p:spPr>
          <a:xfrm>
            <a:off x="5638680" y="52578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9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0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14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6" name="Rectangle 4"/>
          <p:cNvSpPr/>
          <p:nvPr/>
        </p:nvSpPr>
        <p:spPr>
          <a:xfrm>
            <a:off x="1066680" y="5715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Add2 (ADDD) completing; what is waiting for i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18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0" name="Rectangle 4"/>
          <p:cNvSpPr/>
          <p:nvPr/>
        </p:nvSpPr>
        <p:spPr>
          <a:xfrm>
            <a:off x="1050840" y="5638680"/>
            <a:ext cx="71024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Write result of ADDD he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All quick instructions complete in this cyc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5"/>
          <p:cNvSpPr/>
          <p:nvPr/>
        </p:nvSpPr>
        <p:spPr>
          <a:xfrm>
            <a:off x="4800600" y="5257800"/>
            <a:ext cx="9144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2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23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3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2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Loop-Level Parallelis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loit loop-level parallelism to parallelism by “unrolling loop” either b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via branch prediction o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ic via loop unrolling by compil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Another way is vectors, to be covered la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ing instruction dependence is critical to Loop Level Parallel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2 instructions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9200" indent="-2613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they can execute simultaneously in a pipeline of arbitrary depth without causing any stalls (assuming no structural hazard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9200" indent="-261360">
              <a:lnSpc>
                <a:spcPct val="7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depend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they are not parallel and must be executed in order, although they may often be partially overlapp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4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29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5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32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Rectangle 4"/>
          <p:cNvSpPr/>
          <p:nvPr/>
        </p:nvSpPr>
        <p:spPr>
          <a:xfrm>
            <a:off x="1066680" y="57913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Mult1 (MULTD) completing; what is waiting for i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16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3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8" name="AutoShape 4"/>
          <p:cNvSpPr/>
          <p:nvPr/>
        </p:nvSpPr>
        <p:spPr>
          <a:xfrm>
            <a:off x="3048120" y="52578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3733920" y="4343400"/>
            <a:ext cx="685800" cy="3049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6"/>
          <p:cNvSpPr/>
          <p:nvPr/>
        </p:nvSpPr>
        <p:spPr>
          <a:xfrm>
            <a:off x="990720" y="57150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Just waiting for Mult2 (DIVD) to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990720" y="19807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aster than light computation</a:t>
            </a:r>
            <a:br>
              <a:rPr sz="3200"/>
            </a:b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(skip a couple of cycles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55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43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56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46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8" name="Rectangle 4"/>
          <p:cNvSpPr/>
          <p:nvPr/>
        </p:nvSpPr>
        <p:spPr>
          <a:xfrm>
            <a:off x="1066680" y="58039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Mult2 (DIVD) is completing; what is waiting for it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90720" y="759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Example Cycle 57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12760" y="952560"/>
          <a:ext cx="8773920" cy="4995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760" y="952560"/>
                    <a:ext cx="877392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Rectangle 4"/>
          <p:cNvSpPr/>
          <p:nvPr/>
        </p:nvSpPr>
        <p:spPr>
          <a:xfrm>
            <a:off x="990720" y="5575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65744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  <a:ea typeface="Arial"/>
              </a:rPr>
              <a:t>Once again: In-order issue, out-of-order execution and out-of-order comple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AutoShape 5"/>
          <p:cNvSpPr/>
          <p:nvPr/>
        </p:nvSpPr>
        <p:spPr>
          <a:xfrm>
            <a:off x="3124080" y="1295280"/>
            <a:ext cx="457200" cy="1676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676520"/>
              <a:gd name="textAreaBottom" fmla="*/ 1654200 h 1676520"/>
            </a:gdLst>
            <a:ahLst/>
            <a:rect l="textAreaLeft" t="textAreaTop" r="textAreaRight" b="textAreaBottom"/>
            <a:pathLst>
              <a:path w="21600" h="79160">
                <a:moveTo>
                  <a:pt x="3600" y="0"/>
                </a:moveTo>
                <a:arcTo wR="3600" hR="3600" stAng="16200000" swAng="-5400000"/>
                <a:lnTo>
                  <a:pt x="0" y="75560"/>
                </a:lnTo>
                <a:arcTo wR="3600" hR="3600" stAng="10800000" swAng="-5400000"/>
                <a:lnTo>
                  <a:pt x="18000" y="79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AutoShape 6"/>
          <p:cNvSpPr/>
          <p:nvPr/>
        </p:nvSpPr>
        <p:spPr>
          <a:xfrm>
            <a:off x="3124080" y="1295280"/>
            <a:ext cx="457200" cy="1676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676520"/>
              <a:gd name="textAreaBottom" fmla="*/ 1654200 h 1676520"/>
            </a:gdLst>
            <a:ahLst/>
            <a:rect l="textAreaLeft" t="textAreaTop" r="textAreaRight" b="textAreaBottom"/>
            <a:pathLst>
              <a:path w="21600" h="79160">
                <a:moveTo>
                  <a:pt x="3600" y="0"/>
                </a:moveTo>
                <a:arcTo wR="3600" hR="3600" stAng="16200000" swAng="-5400000"/>
                <a:lnTo>
                  <a:pt x="0" y="75560"/>
                </a:lnTo>
                <a:arcTo wR="3600" hR="3600" stAng="10800000" swAng="-5400000"/>
                <a:lnTo>
                  <a:pt x="18000" y="79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AutoShape 7"/>
          <p:cNvSpPr/>
          <p:nvPr/>
        </p:nvSpPr>
        <p:spPr>
          <a:xfrm>
            <a:off x="3809880" y="1905120"/>
            <a:ext cx="457200" cy="106668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066680"/>
              <a:gd name="textAreaBottom" fmla="*/ 1044360 h 1066680"/>
            </a:gdLst>
            <a:ahLst/>
            <a:rect l="textAreaLeft" t="textAreaTop" r="textAreaRight" b="textAreaBottom"/>
            <a:pathLst>
              <a:path w="21600" h="50372">
                <a:moveTo>
                  <a:pt x="3600" y="0"/>
                </a:moveTo>
                <a:arcTo wR="3600" hR="3600" stAng="16200000" swAng="-5400000"/>
                <a:lnTo>
                  <a:pt x="0" y="46772"/>
                </a:lnTo>
                <a:arcTo wR="3600" hR="3600" stAng="10800000" swAng="-5400000"/>
                <a:lnTo>
                  <a:pt x="18000" y="5037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AutoShape 8"/>
          <p:cNvSpPr/>
          <p:nvPr/>
        </p:nvSpPr>
        <p:spPr>
          <a:xfrm>
            <a:off x="4419720" y="1295280"/>
            <a:ext cx="457200" cy="16765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676520"/>
              <a:gd name="textAreaBottom" fmla="*/ 1654200 h 1676520"/>
            </a:gdLst>
            <a:ahLst/>
            <a:rect l="textAreaLeft" t="textAreaTop" r="textAreaRight" b="textAreaBottom"/>
            <a:pathLst>
              <a:path w="21600" h="79160">
                <a:moveTo>
                  <a:pt x="3600" y="0"/>
                </a:moveTo>
                <a:arcTo wR="3600" hR="3600" stAng="16200000" swAng="-5400000"/>
                <a:lnTo>
                  <a:pt x="0" y="75560"/>
                </a:lnTo>
                <a:arcTo wR="3600" hR="3600" stAng="10800000" swAng="-5400000"/>
                <a:lnTo>
                  <a:pt x="18000" y="79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hy can Tomasulo overlap iterations of loops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 renam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iterations use different physical destinations for registers (dynamic loop unrolling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rvation st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it instruction issue to advance past integer control flow op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buffer old values of registers - totally avoiding the WAR stal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perspective: Tomasulo building data flow dependency graph on the f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’s scheme offers 2 major advantag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ion of the hazard detection log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ed reservation stations and the CD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multiple instructions waiting on single result, &amp; each instruction has other operand, then instructions can be released simultaneously by broadcast on CDB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800280" indent="-343080" algn="just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 centralized register file were used, the units would have to read their results from the registers when register buses are avail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 algn="just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imination of stalls for WAW and WAR haza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omasulo Drawback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s of 360/91, MIPS 10000, Alpha 21264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M PPC 620 in CA:AQA 2/e, but not in silicon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associative stores (CDB) at high spe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formance limited by Common Data B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DB must go to multiple functional uni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 capacitance, high wiring dens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of functional units that can complete per cycle limited to on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DB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FU logic for parallel assoc sto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99036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0480" indent="-4204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J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s </a:t>
            </a:r>
            <a:r>
              <a:rPr b="0" lang="en-US" sz="2200" spc="-1" strike="noStrike">
                <a:solidFill>
                  <a:srgbClr val="114ffb"/>
                </a:solidFill>
                <a:latin typeface="Gill Sans MT"/>
              </a:rPr>
              <a:t>data dependen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(aka </a:t>
            </a:r>
            <a:r>
              <a:rPr b="0" lang="en-US" sz="2200" spc="-1" strike="noStrike">
                <a:solidFill>
                  <a:srgbClr val="114ffb"/>
                </a:solidFill>
                <a:latin typeface="Gill Sans MT"/>
              </a:rPr>
              <a:t>true dependenc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I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36200" indent="-315360">
              <a:spcBef>
                <a:spcPts val="550"/>
              </a:spcBef>
              <a:buClr>
                <a:srgbClr val="3891a7"/>
              </a:buClr>
              <a:buFont typeface="Gill Sans MT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ries to read operand before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rites it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36200" indent="-315360">
              <a:spcBef>
                <a:spcPts val="550"/>
              </a:spcBef>
              <a:buClr>
                <a:srgbClr val="3891a7"/>
              </a:buClr>
              <a:buFont typeface="Gill Sans MT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r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s data dependent on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which is dependent on Instr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Gill Sans MT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20480" indent="-4204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f two instructions are data dependent, they cannot execute simultaneously or be completely overlapped</a:t>
            </a:r>
            <a:r>
              <a:rPr b="0" lang="en-US" sz="2200" spc="-1" strike="noStrike">
                <a:solidFill>
                  <a:srgbClr val="8dc765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20480" indent="-4204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ata dependence in instruction sequenc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data dependence in source cod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effect of original data dependence must be preserv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20480" indent="-42048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f data dependence caused a hazard in pipeline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alled a </a:t>
            </a:r>
            <a:r>
              <a:rPr b="0" lang="en-US" sz="2200" spc="-1" strike="noStrike">
                <a:solidFill>
                  <a:srgbClr val="114ffb"/>
                </a:solidFill>
                <a:latin typeface="Gill Sans MT"/>
              </a:rPr>
              <a:t>Read After Write (RAW) hazard</a:t>
            </a:r>
            <a:r>
              <a:rPr b="0" lang="en-US" sz="2200" spc="-1" strike="noStrike">
                <a:solidFill>
                  <a:srgbClr val="8dc765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ata Dependence and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3" name="Rectangle 4"/>
          <p:cNvSpPr/>
          <p:nvPr/>
        </p:nvSpPr>
        <p:spPr>
          <a:xfrm>
            <a:off x="2286000" y="205740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I: add r1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ＭＳ ゴシック"/>
              </a:rPr>
              <a:t>J: sub r4,r1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rc 5"/>
          <p:cNvSpPr/>
          <p:nvPr/>
        </p:nvSpPr>
        <p:spPr>
          <a:xfrm flipH="1" flipV="1">
            <a:off x="1828080" y="2286000"/>
            <a:ext cx="468360" cy="4572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clusion … #1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9036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verage Implicit Parallelism for Performance: Instruction Level Parallel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p unrolling by compiler to increase 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prediction to increase 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ynamic HW exploiting IL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orks when can’t know dependence at compile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hide L1 cache mi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e for one machine runs well on ano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clusion … #2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servations stations: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renaming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to larger set of registers + buffering source operan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events registers as bottlenec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voids WAR, WAW haza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loop unrolling in HW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 limited to basic block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(integer units gets ahead, beyond branches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lps cache misses as wel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sting Contribu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ynamic schedul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gister renam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73040" indent="-174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ad/store disambigu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08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60/91 descendants are Intel Pentium 4, IBM Power 5, AMD Athlon/Opteron, …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LP and Data Dependencies, Hazar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W/SW must preserve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rogram orde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rder instructions would execute in if executed sequentially as determined by original source pro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pendences are a property of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rogram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esence of dependence indicates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otential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a hazard, but actual hazard and length of any stall is property of the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pipeli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portance of the data dependenc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indicates the possibility of a hazar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determines order in which results must be calcula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sets an upper bound on how much parallelism can possibly be exploit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W/SW goal: exploit parallelism by preserving program order </a:t>
            </a:r>
            <a:r>
              <a:rPr b="0" lang="en-US" sz="2200" spc="-1" strike="noStrike">
                <a:solidFill>
                  <a:srgbClr val="0332b7"/>
                </a:solidFill>
                <a:latin typeface="Gill Sans MT"/>
              </a:rPr>
              <a:t>only where it affects the outcome of the pro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Name dependence</a:t>
            </a:r>
            <a:r>
              <a:rPr b="0" lang="en-US" sz="2400" spc="-1" strike="noStrike">
                <a:solidFill>
                  <a:srgbClr val="8dc765"/>
                </a:solidFill>
                <a:latin typeface="Gill Sans MT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2 instructions use same register or memory location, called a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but no flow of data between the instructions associated with that name;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2 versions of name depende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rites operand </a:t>
            </a:r>
            <a:r>
              <a:rPr b="0" i="1" lang="en-US" sz="2400" spc="-1" strike="noStrike" u="sng">
                <a:solidFill>
                  <a:srgbClr val="0332b7"/>
                </a:solidFill>
                <a:uFillTx/>
                <a:latin typeface="Gill Sans MT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lled an “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anti-depende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 by compiler writer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sults from reuse of the name “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r1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anti-dependence caused a hazard in the pipeline, called a </a:t>
            </a:r>
            <a:r>
              <a:rPr b="0" lang="en-US" sz="2400" spc="-1" strike="noStrike">
                <a:solidFill>
                  <a:srgbClr val="0332b7"/>
                </a:solidFill>
                <a:latin typeface="Gill Sans MT"/>
              </a:rPr>
              <a:t>Write After Read (WAR) haz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48" name="Group 3"/>
          <p:cNvGrpSpPr/>
          <p:nvPr/>
        </p:nvGrpSpPr>
        <p:grpSpPr>
          <a:xfrm>
            <a:off x="2133360" y="3429000"/>
            <a:ext cx="3810240" cy="1186200"/>
            <a:chOff x="2133360" y="3429000"/>
            <a:chExt cx="3810240" cy="1186200"/>
          </a:xfrm>
        </p:grpSpPr>
        <p:sp>
          <p:nvSpPr>
            <p:cNvPr id="649" name="Rectangle 4"/>
            <p:cNvSpPr/>
            <p:nvPr/>
          </p:nvSpPr>
          <p:spPr>
            <a:xfrm>
              <a:off x="2590920" y="3429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I: sub r4,r1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J: add r1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ＭＳ ゴシック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Arc 5"/>
            <p:cNvSpPr/>
            <p:nvPr/>
          </p:nvSpPr>
          <p:spPr>
            <a:xfrm flipH="1" flipV="1">
              <a:off x="2133000" y="3581280"/>
              <a:ext cx="468360" cy="457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99036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Name Dependence #1: Anti-dependenc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3:19:07Z</dcterms:created>
  <dc:creator>Pusat Komputer</dc:creator>
  <dc:description/>
  <dc:language>en-US</dc:language>
  <cp:lastModifiedBy>Nasharuddin Zainal</cp:lastModifiedBy>
  <dcterms:modified xsi:type="dcterms:W3CDTF">2011-12-02T03:36:14Z</dcterms:modified>
  <cp:revision>118</cp:revision>
  <dc:subject/>
  <dc:title>Computer Organization  and Architecture</dc:title>
</cp:coreProperties>
</file>